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DS National Confer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3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arch 20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3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3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FE54-38BC-453E-B6A0-1EA43C3B39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76F6-1A59-4465-AFAF-3391541B2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rch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DS National Confer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7B89B7-84F0-4E26-AC8A-41867821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BDC956-5C83-4ABF-978D-33BCA38B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1BA228-AFDD-4310-9E17-4B2C5675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4DC202-6FC3-412D-AFD8-2E943433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B3DB92-BD37-4C68-9FC7-0C2FFDB2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0CECA6-2749-48F7-AF2F-17164F69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0D0D73-41AE-4748-A25D-97E4026D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558662-3E58-4D9C-ACA1-B10390EC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D4D052-7132-4204-A86E-AB203692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5F14D2-544B-4858-9CA8-630B9D65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B398E0-7EF8-4C0D-A0E7-581E18B6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88C4CA-6A28-4433-80D9-A2684BC8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9FB714-8D15-458F-90A0-5BE8A8E7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D4F387-6F5C-4631-8A08-6E2353E8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4C83E9-BAA2-4C9C-9C9B-395ECE99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DF6E6D-D486-451C-9952-CE19A482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89F3C6-ED65-4155-91FF-2744548F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740559-DF4F-4229-8B6D-200252BF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3CCA8E-261D-4C2E-B373-EAE3D909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E38455-2BFD-444A-B49B-0BA76BF6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9E449C-E169-4B92-AA4F-CEE1C8ED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980A17-8F4E-4B99-8892-4E88CA6F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05106E-ECB3-4E76-B8E9-8D4FD0DC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A39E9C-1920-4EAF-B554-C910D0C4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A2C227-DCF0-4298-B8AF-F01925E9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FF641D-D44A-4EE7-B201-E90FF66B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451A22-B3BA-4FEB-A615-F6209103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9411FB-0E4A-4181-9C62-112D090C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08F98F-5D74-47CC-9B92-6E3306F1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5ED9E8-4259-4607-86D4-9E115561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519D2-29EB-45AD-9B82-E2414DCF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3C1AC7-BC59-41D5-85AB-3730115C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A40B77-B41C-490B-83FB-FE4A9FF4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FA3B54-F385-4694-BCAE-247223E5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ED32A4-A3DE-4C18-BE2A-1FDE029B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3ADCF3-31EB-4338-847D-28FE8448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47981B-FCA4-4E33-9A31-61242B8D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707B00-2031-46E2-9955-C9F58236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C51CF8-3673-4127-9154-D9F2564A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02B358-3724-4125-904C-64997209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7D47DC-4BA6-485A-9379-1CA236A5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60F1D-9B0B-4EDD-8B02-F948F0A6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F5C672-076A-49E0-8282-8BA30465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0E93BF-99AD-49BD-9CB4-92B060F1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AC3227-81B1-4BDD-A73C-7BFE16FE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48EB54-B26D-48EA-A862-53681CC9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D9B280-CA25-4AF4-BB60-26142BB0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47519-7261-49CF-8241-F98913E0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2D843-43F2-4B26-9FE8-698C7264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BB9C8-9A25-434B-9890-EEAA2EBD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582AC-7943-437D-9F7C-72787A77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FBF5A-6F0B-4D26-971D-CD3B90EB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3B099-6D74-47D1-AE21-D9374F1C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F5A11-6A3A-4702-9539-AE43BB70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ADF19-FBFE-4EAE-BF05-7AEE1FF4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E03BB-B4B6-407D-8841-E7794FA1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60FF7-7477-4E7B-90BF-15DFB4F1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AF544-897C-4011-83B5-7EC39E2C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728C6-5421-474A-B261-72A87998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A455B-2444-4CDD-818B-CB7818DD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4FA80-3600-43D6-B0D7-4B629ECF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571BA-514E-4662-AD80-CE6462DB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CA05D-E13C-4F08-A40D-2E2E6DF0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19EFF-4817-4CF0-980B-2D5EE8A2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D29BC-3422-422E-A63B-79AE0DD9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DE662D-90D3-4715-93B5-3792E095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AE2DE-B12D-4D16-9086-AC81C8D6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8E67D-B9BB-4182-A887-B109D71D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7523F-0F3B-424F-A9E7-0580FD58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B3B9A-ADE2-4E6B-BE90-6F4AFF1B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2DB2BB-CB66-41ED-BD96-A6C3449F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58D38B-9977-4EEB-B9C4-CE32FD90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E1020B-D679-4B15-AA93-462964D5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70A826-6ECB-4AAA-9E45-ADEBFA5E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175231-9FFD-4194-BF42-66655901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BE242D-CCE1-4D70-99FE-A9FE04D8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8A3387-64F1-40B7-BCE7-90914BBE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3E1724-5DF5-4140-88D0-87C2CB7B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70F74A-9CCF-463B-97D0-4A9B3B51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582505-62B0-4466-BE5A-D3D7757D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AF758B-BB79-4201-A548-0C15FB56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C5A9A-B08D-4428-8187-C01571B5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F7804-275C-437C-867D-EAD5032F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10FC8-3BEF-46D3-B9AA-445D4E2D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664247-A9AB-439A-A3DD-5C6B5B16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267DD-1F84-4567-A036-C84603AF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D0DAB-44EE-4E06-B799-7EACBD06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C7A410-8EE0-42CD-A613-546679A6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D10472-FAA1-499D-B67D-81DFADF7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A84E3F-21A6-4625-BFBD-A499DE36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ACCC8C-B6BA-47FC-9A0A-8271FC5A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14A8A3-1988-458B-B29B-0E72C891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F4D56-965B-4437-B01D-B4870152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9CF2FC-8E2D-440D-96F8-D5B94BB2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3C4142-53E0-4EAF-A5C6-578E2B51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970E47-A728-43A7-88A5-68E25FE9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7C4040-98E2-4D26-A203-516CD3D1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D0526A-1621-4518-B4F7-8AADA677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BE4025-4228-483E-A737-C8E3FB57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87A40-11FF-40A4-B1B4-067F85CA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52753-20FD-43BC-B0B5-5A717050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E9FC0-E3D5-45EF-9E34-6300928C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A0C691-7312-4E54-9621-AE5C3B7D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8239EF-F344-4D49-8458-B7EBD690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F3CD5A-0C2A-46A8-9059-D17A1589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28BE94-BD87-4582-AA63-060CBE4E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43B730-F44A-41EF-BABD-2EE97290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F5360A-E376-4FA9-9FBE-A98ED84E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78B5E-75AF-4475-922C-CB9AAA9B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4311B2-8B60-45F6-B8A5-EB394A17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3E2B27-B376-4862-BF4D-229A03B1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A47C52-0A12-4EA9-8BA0-1B0BE1A1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19FAE0-618B-4834-9C72-0F1B5E5A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AD73B9-1465-4C42-92C5-C8E64B01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10449F-3776-4EBE-8F7C-08AAA007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05AE1D-21E9-44AC-B09D-6BDC3C90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D3300-C013-4DD2-8FC5-3F3AC876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0232C6-6EDE-47F9-8101-1421C484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54478E-5BBE-47C2-A4C3-306E5947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F7C858-A763-4AE7-B635-7D254180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2905AF-3E50-485B-87EC-35EAEDA1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17C383-F768-41C8-829F-D8347F45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E6142B-2F94-40AB-882A-44EFD1D1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55F142-E607-41CE-B167-43832500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2D9E38-D5EF-48CB-B937-0B18929C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358B33-FAB2-4C5D-BDD1-8AA7A7B9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DB585E-D4EA-4FC3-AB0D-E11CBD7B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9FFD61-84DC-4BA6-B47E-1DC733E7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FF95BE-1403-4FC5-8347-E810A78F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A558A2-C733-4939-B7E2-6AEB7E8C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73FA84-DCCF-42C5-9338-A5170520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629C3E-AF7F-411E-8D0C-C82901B9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012 MDS National Con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7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C277-C25F-45A3-AE77-EA3F258DF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0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62CF-50F4-4ADC-BE77-9C5A2853F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1048-C9DB-4B34-95A0-7BEDF6C554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5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7826-4239-4769-AA66-194037778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B87F-773C-436F-849C-B77AD63539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9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3A82-290F-420C-8858-B7051BF2B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8C62-F27C-4F8D-98C2-FB80491330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5D22-98D6-4FEF-85C9-9A1EA2857D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DDD5-A127-48E0-928E-A7D215401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E79F-2860-4472-80DB-5DF669FD82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26A2-43F9-4660-BB77-B75E46EE1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F6CC-1CA7-47D7-B11C-01D37A3B74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6CA0-2AD4-4165-A84B-1D8FE94C9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A688-B6FD-4081-A292-61B46CB0EE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CAE9-8F56-4246-AAA6-DABB08139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6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A171-A0A4-43D7-9A7E-BE9F5DCC57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4CF9-273D-4306-9D5D-977659933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FB19-47BF-42E7-970B-8F11B35756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E915-BE27-4172-87C5-4726C58B0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8626-6D46-4844-AE18-304A512F51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0" descr="CMSlog4col"/>
          <p:cNvPicPr/>
          <p:nvPr/>
        </p:nvPicPr>
        <p:blipFill>
          <a:blip r:embed="rId2"/>
          <a:stretch/>
        </p:blipFill>
        <p:spPr>
          <a:xfrm>
            <a:off x="0" y="6313320"/>
            <a:ext cx="1752480" cy="54468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"/>
          <p:cNvSpPr/>
          <p:nvPr/>
        </p:nvSpPr>
        <p:spPr>
          <a:xfrm>
            <a:off x="8229600" y="6402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6406-1A6F-4C27-A003-0CB5A06D2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E79D-4994-402C-96DF-0BC1EABD6A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cms.gov/nursinghomequalityinits/30_nhqimds30technicalinformation.asp" TargetMode="External"/><Relationship Id="rId2" Type="http://schemas.openxmlformats.org/officeDocument/2006/relationships/hyperlink" Target="https://www.qtso.com/mds30.html" TargetMode="External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s://www.qtso.com/mds30.html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Garamond"/>
              </a:rPr>
              <a:t>MDS 3.0 Errors and Reports – Don’t Let Them Trip You Up</a:t>
            </a:r>
            <a:endParaRPr b="0" lang="en-US" sz="4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port Header Inform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Date/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ID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ter User ID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File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y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Code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y ID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Informatio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Completion Date/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 Records in Submission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Invalid Rec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 Records Processed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Records Accep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# Production Records Rejected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Duplicate Records: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Records Submitted  Without Facility Authority: (useri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oduction Records Submitted  But Not Allowed   (subre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# of Messages for Production Recor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Report Header: Submission &amp; Facility Information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8088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Submissio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NH Final Validatio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Date/Ti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22/2012 14:06: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Completion Date/Ti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22/2011215:15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I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File Status:                      Comple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Cod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I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94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ter User I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TEST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Report Header: Processing Information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 Submission Repo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S 3.0 NH Final Validation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Records in Submission Fi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Invalid Rec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Records Proces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Accep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Rejec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Duplicate Rec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Submit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Facility Authori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duction Records Submit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Allow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# of Message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Rec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cord Header Inform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processing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mt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(last, fir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_Int_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050 (type of transaction) – changed 4/1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200 (type of provider cod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 Subset Code (IS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A (OBRA RF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B (PPS R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C (PPS OMRA RF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D (SB clinical ch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E (first assessmen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F (entry/discharg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0310G (type of discharge) – new 4/1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1100E (attestation date) Data Spec Version #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File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cord Header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cord:  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epte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Record 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mt_ID:  317144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Name:  TEST1, MDSname1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_Int_ID:  1576613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SSN:  899741056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orm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200:      1   A0310A: 99    Target Date:  04/14/20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310B: 01   A0310C:    0    Production/Test Indicator:  PRODU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310D:   ^   A0310E:    1    Attestation Date (X1100E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0310F: 99   A0310G:    ^    Type of Transaction (A0050):  NEW RECO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em Subset Code:  NP         Data Specs Version #:  1.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 File Name:                     IN_FAC11940000_RES09434_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20729_A00_NP199990_01.xm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cord Detail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ight Arrow 5"/>
          <p:cNvSpPr/>
          <p:nvPr/>
        </p:nvSpPr>
        <p:spPr>
          <a:xfrm>
            <a:off x="4724280" y="1752480"/>
            <a:ext cx="685800" cy="889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9999"/>
          </a:solidFill>
          <a:ln w="381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ight Brace 6"/>
          <p:cNvSpPr/>
          <p:nvPr/>
        </p:nvSpPr>
        <p:spPr>
          <a:xfrm>
            <a:off x="6629400" y="2209680"/>
            <a:ext cx="304920" cy="619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619200"/>
              <a:gd name="textAreaBottom" fmla="*/ 611280 h 61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3"/>
                  <a:pt x="10800" y="886"/>
                </a:cubicBezTo>
                <a:lnTo>
                  <a:pt x="10800" y="9914"/>
                </a:lnTo>
                <a:cubicBezTo>
                  <a:pt x="10800" y="10357"/>
                  <a:pt x="16200" y="10800"/>
                  <a:pt x="21600" y="10800"/>
                </a:cubicBezTo>
                <a:cubicBezTo>
                  <a:pt x="16200" y="10800"/>
                  <a:pt x="10800" y="11243"/>
                  <a:pt x="10800" y="11686"/>
                </a:cubicBezTo>
                <a:lnTo>
                  <a:pt x="10800" y="20714"/>
                </a:lnTo>
                <a:cubicBezTo>
                  <a:pt x="10800" y="2115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304920" y="2971800"/>
            <a:ext cx="8534160" cy="2438280"/>
          </a:xfrm>
          <a:prstGeom prst="rect">
            <a:avLst/>
          </a:prstGeom>
          <a:noFill/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Straight Arrow Connector 8"/>
          <p:cNvCxnSpPr/>
          <p:nvPr/>
        </p:nvCxnSpPr>
        <p:spPr>
          <a:xfrm>
            <a:off x="4343040" y="5410080"/>
            <a:ext cx="1080" cy="354960"/>
          </a:xfrm>
          <a:prstGeom prst="straightConnector1">
            <a:avLst/>
          </a:prstGeom>
          <a:ln w="38160">
            <a:solidFill>
              <a:srgbClr val="009999"/>
            </a:solidFill>
            <a:miter/>
            <a:tailEnd len="med" type="arrow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 Inform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53352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Item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items to which the error message per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Data Submit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s the submitted values of the items listed in the MDS 3.0 Item(s)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unique message number and type of message (fatal/warning).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the text of the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 Exampl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Item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Date, A0050, Z050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Data Submitt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3/21/2011, 1, 01/20/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810d      W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ubmitted Late: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date is more than 14 days after Z0500B on this new (A0050 equals 1)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9000" indent="-3429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 Exampl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S 3.0 Item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0100A, RECALCULATED_Z0100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Data Submitt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160, BA1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616a       WARNING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rect HIPPS/RUG Value: The submitted value of the HIPPS/RUG code does not match the value calculated by the QIES ASAP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Various Destinations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record is edited for potential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Error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al  -  “Really Bad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is not accepted into ASAP system, i.e. rejec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correct record and submit ‘new’ re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nings  -  “Issue” to  “Information Ale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is accepted into ASAP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uld determine if need to address/fix someth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The Itinerar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ssion Statu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y Final Validat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ASPER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oftware Functionality Issu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ntry software should be ensuring that the data entered is compliant with the Data Spec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allowing submission of a record, the software shou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active items are comp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the data is compliant with all ed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errors/messages to the user for missing items and failed 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Error Messa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Fat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Flow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/Softwar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Warning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and Sequenc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al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07 Duplicate Asse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d record is a duplicate of a previously submitted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30 Missing Ite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upon the Item Subset Code (ISC) submitted in this record, this item is requ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76 Invalid Valu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submitted for this item is not an acceptabl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573a Inconsistent D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spcAft>
                <a:spcPts val="4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date listed must be prior to or the same as the second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93a Invalid FAC_I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spcAft>
                <a:spcPts val="4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C_ID submitted in this file does not identify a valid provider in the QIES ASAP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93b Unauthorized Submitt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spcAft>
                <a:spcPts val="4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r's User ID is not authorized to submit data on behalf of the provider identified by the FAC ID in this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3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58 No Authority to Collect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 rights require federal and/or state authority to collect MDS data.  There is no authority to collect the data submitted.  Data was not accep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04 Invalid XML File Forma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bmitted file is not structured properly or contains tags longer than 30 characters and cannot be process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ost Common Fatal Error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4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68b Inconsistent O I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2300 minus A1600 is less than or equal to 13 days, then items O0100A1 through O0100Z1 in Column 1 must equal 0, 1, or dash (-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783 Inconsistent X08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d modification value submitted in X0800 is not incremented by one (1) from the previously submitted modification value for this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Work Flow Fat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e Record (-1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does not know which files were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ding validation report(s)/activity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ing in original rather than a modification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uthorized submitter (corporate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)      (-3693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uthority to collect (sub-req) (-36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User/Software Fat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ted value is in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understood the question/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ntry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ignored/overrode the issued softwar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n’t answer (code) required i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didn’t issue error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User/Software Fatal Error Examples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Dates (date o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573a, -3573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Skip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704b, -3612a, -3528c, -3779a, -3809, -3779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668b, -3752, -3608, -3752, -3559b, -3557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3691, -3676,  -36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spcAft>
                <a:spcPts val="300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0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oftware Fat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zipping the submissio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record format in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cluding required control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ccurate calculation of Item Subset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formatting of date or ICD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Planning the Journe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vie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y Final Validation Report (FFV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Section 5 of the Provider User’s Guide h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e intimid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MDS 3.0 reports, a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oftware Fatal Error Exampl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file not zipped (-1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not in correct XML format (-1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cluded all required control items (-1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_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_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 code does not match A0310 values (-37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Format (dates, ICD codes, text values, numbers) (-3677, -3591, -3570, -3688,-37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0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806 Inconsistent A0100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submitted for A0100C (State Provider Number) does not match the State Provider Number in the QIES ASAP System for the provider identified by the FAC_ID in the f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31 Resident Information Updat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t identifying data submitted in this item is not the same as the data previously submitted for this resident.  Verify that the new information is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32 Resident Provider Upd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records indicated that a different provider previously cared for this resident.  The provider associated with this resident was updated.  Please verif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60 Medicare FY2011 RUG IV Transition RUG Calculat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dicare FY2011 Transition RUG IV was calculated for this assess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616b Incorrect RUG Logic Ver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mitted value of the RUG version code does not match the value calculated by the QIES ASAP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3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808 Missing/Invalid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quired Section S item is either missing or contains invalid data. Number fields must be uns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616a Incorrect HIPPS/RUG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mitted value of the HIPPS/RUG code does not match the value calculated by the QIES ASAP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on Warning Messag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4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810d Record Submitted 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mission date is more than 14 days after Z0500B on this new (X0100 equals 1) assess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18 Inconsistent Record Sequ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CMS sequencing guidelines, the type of assessment in this record does not logically follow the type of assessment in the record received prior to this 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749a Assessment Completed 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0500B (assessment completion date) is more than 14 days after A2300 (assessment reference da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Timing and Sequencing Messa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Assessment (-3759a-e, -3810a-e, -10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ubmitted and accepted within 14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nsistent Record Sequence (-10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complete an entry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complete/submit a discharge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complete/submit a required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sident and not an entry record (-10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Informational Error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resident information (-10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o make sure new resident information is corre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PS/RUG code doesn’t match (-3616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 the ASAP recalculated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PS/RUG version doesn’t match (-3616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 software using different RUGS (logic) version of the RUGS than ASAP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Fiscal Year RUG code calculated  (-1059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ommunication Error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A0100C  (-3806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Provider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y submitted a blank in the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gency did not enter number in the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gency and facility have a different number of leading zeros on th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 numbers do not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tate - 4963, facility – 0004963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from the database is displayed in the error message (Current Value).  If facility thinks the number is wrong, then they should contact their state ag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Supplemental Excursions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port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ter Validation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Admission/Re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Assessments with Error Number 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Dis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Error Detail by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Error Number Summary by Facility by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Beginning the Journey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port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Errors by Field by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Missing OBRA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NH Assessment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RFA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R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Submission Statistics by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Vendor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ubmitter Validation Repor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ly need to 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hould be on FFV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when FFVR for the submission lists fewer records than were submitted in th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P system could not read missing record.  (-1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P system could not identify facility of record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1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run by submitter of th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Activity Repor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33" name="Content Placeholder 2" descr=""/>
          <p:cNvPicPr/>
          <p:nvPr/>
        </p:nvPicPr>
        <p:blipFill>
          <a:blip r:embed="rId1"/>
          <a:stretch/>
        </p:blipFill>
        <p:spPr>
          <a:xfrm>
            <a:off x="420840" y="1542960"/>
            <a:ext cx="826596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Admission/Reentr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35" name="Content Placeholder 2" descr=""/>
          <p:cNvPicPr/>
          <p:nvPr/>
        </p:nvPicPr>
        <p:blipFill>
          <a:blip r:embed="rId1"/>
          <a:stretch/>
        </p:blipFill>
        <p:spPr>
          <a:xfrm>
            <a:off x="420840" y="1542960"/>
            <a:ext cx="83088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MDS 3.0 Assessments with Error Number XXXX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s the assessments submitted with a specified error for a facility during a specified timefra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identify assessments with certain fatal errors that were submitted that need to be corrected and resubmit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determine which assessments were not completed under CMS timing rules (i.e., OBRA quarterly and yearly rul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identify a pattern with coding or an area in need of trai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o identify software-related err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Discharg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e residents discharged (A0310F = 10, 11, or 12) from a facility during a specified time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discharged resident appears on the MDS 3.0 Roster report, use this report to determine if discharge was accepted in the ASAP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rive a list of all residents discharged since the last survey or other time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monthly or more frequ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Error Detail by Facilit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641" name="Content Placeholder 2" descr=""/>
          <p:cNvPicPr/>
          <p:nvPr/>
        </p:nvPicPr>
        <p:blipFill>
          <a:blip r:embed="rId1"/>
          <a:stretch/>
        </p:blipFill>
        <p:spPr>
          <a:xfrm>
            <a:off x="433440" y="1163520"/>
            <a:ext cx="843588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MDS 3.0 Error Number Summary by Facility by Vendor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the errors encountered on assessments submitted by or on behalf of a facility during a specified timefr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vendor specific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Errors by Field by Facilit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e errors encountered in the fields of successful submissions made by or on behalf of a facility during a specified timefr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training needs within fac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identify potential software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Garamond"/>
              </a:rPr>
              <a:t>MDS 3.0 Missing OBRA Assessment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 the residents in select facilities for whom the target date of the most recent OBRA assessment (other than a discharge or death record) is more than 138 days prior to the report run d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also includes residents for whom no OBRA record was submitted for a current episode that began more than 60 days prior to the report run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s a QA tool to ensure all assessment have been successfully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Submission Statu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5334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sts all files submitted by the user logged into the submission status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Content Placeholder 8" descr="Image of List of My Submissions page.  The columns titled Total Record Count and Status are highlighted.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NH Assessment Prin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the assessment items submitted on the assessment with the selected Assessment 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problem so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RFA Statistic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for a facility the reasons for assessment for accepted assessments submitted during a specified time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monitor /evaluate workload during an identified time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Roster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residents of a facility for whom the latest accepted, federally required assessment is not a Discharge assessment. (A0310F = 10, 11, or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a list of all current residents at time of surv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s a QA tool to ensure all current residents have an entry record and all discharge residents have a discharge record in the ASAP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Garamond"/>
              </a:rPr>
              <a:t>MDS 3.0 Submission Statistics by Facility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the submissions made by or on behalf of a facility during a specified timefr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determine workload during a specified time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MDS 3.0 Vendor Lis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all current vendors for select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o determine active vendors within a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Garamond"/>
              </a:rPr>
              <a:t>Home Stretch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ferenc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1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S 3.0 Data Submission Specifications on the CMS MDS 3.0 web site at </a:t>
            </a: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http://www.cms.gov/nursinghomequalityinits/30_nhqimds30technicalinformation.asp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Data Set (MDS) 3.0 Provider User’s Guide on the QTSO MDS 3.0 web site at </a:t>
            </a: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https://www.qtso.com/mds30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5 contains the error and warning mess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References</a:t>
            </a:r>
            <a:r>
              <a:rPr b="1" lang="en-US" sz="4200" spc="-1" strike="noStrike" baseline="-25000">
                <a:solidFill>
                  <a:srgbClr val="003399"/>
                </a:solidFill>
                <a:latin typeface="Garamond"/>
              </a:rPr>
              <a:t>2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PER Reporting User’s Guide for MDS Providers at        </a:t>
            </a:r>
            <a:r>
              <a:rPr b="0" lang="en-US" sz="2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https://www.qtso.com/mds30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6 contains MDS 3.0 NH provider reports (section 8 is swing bed provider repor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7 contains the MDS 3.0 NH final validation report (section 9 is swing bed final validation repor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10 contains MDS 3.0 submitter validation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Zero Records Processed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FILE - Fatal Fil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cannot be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cords in ZIP file can be ext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acility Final Validat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your vend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199"/>
              </a:spcBef>
              <a:spcAft>
                <a:spcPts val="1199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not per spec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One or More Records Processed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y Final Validation Report  (FFV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gener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ed into CASPER fol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viewed by anyone with a submitter user ID for that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each record proce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ed or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Final Validation Report Locatio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n to CASPER, go to F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LTC fac_id V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ontains facility validation r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d mmddyyyyhhmmss.submission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ddyyyy is the submiss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hmmss is the submission time (24 hour time: hour, minutes, seco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ID is the submission ID of the submission f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- 01132012142046.2628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ted on 01/13/2012 at 14:20:46 (2:20 pm), ID = 2628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FFVR Repor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Head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Head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specif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 Messag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spcAft>
                <a:spcPts val="601"/>
              </a:spcAft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3:06:59Z</dcterms:created>
  <dc:creator>Mary Sowers</dc:creator>
  <dc:description/>
  <dc:language>en-US</dc:language>
  <cp:lastModifiedBy>Jennifer Parrish</cp:lastModifiedBy>
  <cp:lastPrinted>2012-02-16T20:10:47Z</cp:lastPrinted>
  <dcterms:modified xsi:type="dcterms:W3CDTF">2012-03-19T02:55:14Z</dcterms:modified>
  <cp:revision>55</cp:revision>
  <dc:subject/>
  <dc:title>Functions in Support of Self-Dir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7827630</vt:r8>
  </property>
  <property fmtid="{D5CDD505-2E9C-101B-9397-08002B2CF9AE}" pid="3" name="_AuthorEmail">
    <vt:lpwstr>Renee.Henry@cms.hhs.gov</vt:lpwstr>
  </property>
  <property fmtid="{D5CDD505-2E9C-101B-9397-08002B2CF9AE}" pid="4" name="_AuthorEmailDisplayName">
    <vt:lpwstr>Henry, Renee G (CMS/OCSQ)</vt:lpwstr>
  </property>
  <property fmtid="{D5CDD505-2E9C-101B-9397-08002B2CF9AE}" pid="5" name="_EmailSubject">
    <vt:lpwstr>Update for the training page</vt:lpwstr>
  </property>
  <property fmtid="{D5CDD505-2E9C-101B-9397-08002B2CF9AE}" pid="6" name="_NewReviewCycle">
    <vt:lpwstr/>
  </property>
</Properties>
</file>