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E98E-BCFB-4B5D-925F-59DDF30A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8ED7-FEEE-463E-91F1-CE78DDF0909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2CA-333A-4DE5-B2F8-DF8D5E4F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50C-EC64-4639-97E0-BE6D41AD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0A4-77C8-47F2-A269-1033AEC0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F49-16E8-4FE9-A867-9DF54630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E420-6B5F-4A73-80E8-A870A1E9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F890-C304-47C9-8B59-1E82A7BA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7FF5-D849-422F-875F-B4955D65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BB00-853D-41FE-B885-69C08BE5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F439-04CE-40F6-A64D-22F6934F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F65E-BE40-446B-8958-1713254F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235D-0EC9-4BB6-BEB8-612CAF49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415-0F26-4922-B48D-FC6C0DF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962-F485-48F8-9282-90599780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D26E-BE25-4C63-9BB7-46D1BCBE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BFAB-AF58-4434-B4E1-9CB6CF4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0472-AF31-4F38-9D19-787A06B3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8C1E-6756-41C9-B29D-28DFB0FA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EB2-FA1D-4195-B864-46479C5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3C1-2CB7-4B2D-8CF7-BB018589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E5A-6390-4281-9115-11FD123F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379-ABAE-407D-935A-6E1ED796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FAB-5EA4-4A98-A97C-6E95D00C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B66-172A-4259-88B1-CD76A1CC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309-669D-473A-B8AD-24F16BC5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4422-242A-4C64-B6CC-8822596E5FF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FE6F-6E2C-4617-93DE-371464E33DF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of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Charles  Padgett</cp:lastModifiedBy>
  <dcterms:modified xsi:type="dcterms:W3CDTF">2012-07-24T13:44:42Z</dcterms:modified>
  <cp:revision>65</cp:revision>
  <dc:subject/>
  <dc:title>QIES Year in Review - 2005</dc:title>
</cp:coreProperties>
</file>