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0" y="8827560"/>
            <a:ext cx="3038400" cy="466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970440" y="8827560"/>
            <a:ext cx="3038400" cy="466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4DEACDF-EE99-4A07-8D39-6A4CE13D4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A2BA628-1C0C-4167-A94D-5AA25296D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D237F90-A926-41B7-8499-D2E06C5BD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33E88FE-4507-47C6-8E80-857E542EC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6AA3FAF-E4C3-4D0A-89C5-8C8E67BAA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7C348B9-CF77-47B8-AAE1-C7CC0BC16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47F9D0D-0E14-4CFF-9837-B1AF05DBB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F98D555-F382-4308-96B3-12EF79915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FD26A9A-96B6-48F7-8BDE-1323F64BE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7FAECD0-E10C-4D0C-9CB3-4240A94F5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452F757-DAC0-404B-A850-F0B90D537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Univers 47 CondensedLight"/>
              </a:rPr>
              <a:t>NOTE:</a:t>
            </a:r>
            <a:r>
              <a:rPr b="0" lang="en-US" sz="800" spc="-1" strike="noStrike">
                <a:solidFill>
                  <a:srgbClr val="000000"/>
                </a:solidFill>
                <a:latin typeface="Univers 47 CondensedLight"/>
              </a:rPr>
              <a:t> once submitted and accepted the manual form process must be utilized to correct the subreq valu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137E775-76BC-4C8C-A1B1-50712A8EB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2DAF362-35A5-47FA-8331-3279AA1FA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104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631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93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104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631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4104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631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2193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4104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631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CMS HHS Bckgr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240" indent="-320760">
              <a:spcBef>
                <a:spcPts val="21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ooter Placeholder 3"/>
          <p:cNvSpPr/>
          <p:nvPr/>
        </p:nvSpPr>
        <p:spPr>
          <a:xfrm>
            <a:off x="7086600" y="6332400"/>
            <a:ext cx="685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39B3D-5056-414F-8132-A0AE1D4FEED0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CMS HHS Bckgr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8" descr="Title_Pages_nopeople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240" indent="-320760">
              <a:spcBef>
                <a:spcPts val="21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www.qtso.com/ravendownload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help@qtso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Image depicting the JAVA logo, the CMS logo, and the title Inpatient Rehabilitation Validation and Entry System (jIRVEN)."/>
          <p:cNvPicPr/>
          <p:nvPr/>
        </p:nvPicPr>
        <p:blipFill>
          <a:blip r:embed="rId1"/>
          <a:stretch/>
        </p:blipFill>
        <p:spPr>
          <a:xfrm>
            <a:off x="1208160" y="1128600"/>
            <a:ext cx="6727680" cy="46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IRVEN User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215720" y="1599840"/>
            <a:ext cx="7365960" cy="41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ccount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assessments created by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Assess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Data Entry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3812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ort/ Expor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15720" y="1599840"/>
            <a:ext cx="7651800" cy="45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 assess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XML layou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ext layout based on IRF-PAI Data Specifica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ort assess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XML layout for submission to ASA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84200" y="374760"/>
            <a:ext cx="82440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alidation Utility Tool (VUT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216080" y="1599840"/>
            <a:ext cx="753912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UT – Validation Utility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Validate IRF-PAI submission files in XML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nforces edits that are mapped to IRF-PAI items, as published in IRF-PAI Data Specifica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gration To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215720" y="1600200"/>
            <a:ext cx="749124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1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grates Facility data for Inpatient Rehabilitation Fac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igrate Patients from IRVEN into jIRV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ser selects the .mdb from IRV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tient Match is utilized during migration proce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ctive database and\or the archive database may be migrated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es Last Assessment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74"/>
              </a:spcBef>
              <a:buClr>
                <a:srgbClr val="2d2db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74"/>
              </a:spcBef>
              <a:buClr>
                <a:srgbClr val="2d2db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19120" y="274320"/>
            <a:ext cx="82440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ftware Downloa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215720" y="1599840"/>
            <a:ext cx="765180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IRVEN can be downloaded f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QTSO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https://www.qtso.com/IRVENdownload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CMS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3333cc"/>
                </a:solidFill>
                <a:uFillTx/>
                <a:latin typeface="Arial"/>
              </a:rPr>
              <a:t>https://www.cms.gov/Medicare/Medicare-Fee-for-Service-Payment/InpatientRehabFacPPS/Software.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of the reference documents can also be located at the above lin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71360" y="1442880"/>
            <a:ext cx="7538760" cy="41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QTSO help des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800-339-93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help@qtso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84200" y="377640"/>
            <a:ext cx="8244000" cy="63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RVEN vs jIRVE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215720" y="1599840"/>
            <a:ext cx="755820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31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l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31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security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31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urity Ques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31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ssword Expiration every 60 day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notifications when latest version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utilized (internet connection requir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RVEN vs jIRVE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216080" y="1600200"/>
            <a:ext cx="702288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questions now appear in a tre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instead of tab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 running form on one page vs. a section per t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s are applied as questions are answ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6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t \ Error box is on the same screen as the data entry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IRVEN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216080" y="1599840"/>
            <a:ext cx="766440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atient Rehabilitation and Patient Assessment Collection User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4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y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for creation of multiple fac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4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zes Patient Match to prevent duplicate 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rts by specific column if heading is selec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search for Patients by using specific search cri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IRVEN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216080" y="1599840"/>
            <a:ext cx="6702480" cy="39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8 acce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unctionality can be turned on and off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eyboard alternativ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19040" indent="-404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key,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TR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llows utilization of screen reader software (i.e. JAW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llows utilization of speech recognition software (i.e. Dragon Naturally Speaking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72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84200" y="378000"/>
            <a:ext cx="82440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IRVEN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216080" y="1599840"/>
            <a:ext cx="74073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6680" indent="-43344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ser is prompted to back up database when exiting jIRV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96680" indent="-43344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jIRVEN back up should be directed to an external driv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96680" indent="-43344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for restore of database (i.e. PC crash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6680" indent="-43344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backup of database during inst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IRVEN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6080" y="1600200"/>
            <a:ext cx="6711840" cy="39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vailable for each item of the form by selecting the Help Icon, Help Menu, or F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jIRVEN User Guide is included with the installation of jIRVEN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800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IRVEN User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216080" y="1600200"/>
            <a:ext cx="747072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ccount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ystem Administrator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, Edit, or Delete Facility, Users, and Patients ac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, Edit, Modify, Inactivate, or Delete assessment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 or Export  Patient and Assess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Assess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assessments created by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re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IRVEN User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215720" y="1599840"/>
            <a:ext cx="736596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ccount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ata Entr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or Edit Patient data for all assessment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Assess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assessments created by other user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Data Entry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User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3812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19:19:05Z</dcterms:created>
  <dc:creator>Centers for Medicare &amp; Medicaid Services</dc:creator>
  <dc:description/>
  <dc:language>en-US</dc:language>
  <cp:lastModifiedBy>Jennifer Parrish</cp:lastModifiedBy>
  <cp:lastPrinted>2012-04-28T10:13:26Z</cp:lastPrinted>
  <dcterms:modified xsi:type="dcterms:W3CDTF">2012-05-11T11:55:50Z</dcterms:modified>
  <cp:revision>765</cp:revision>
  <dc:subject>MDS Classroom Training</dc:subject>
  <dc:title>Section L: Oral/Dental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BB580D97-3256-43EF-8DEF-5DCD0C1E0C85</vt:lpwstr>
  </property>
  <property fmtid="{D5CDD505-2E9C-101B-9397-08002B2CF9AE}" pid="3" name="ArticulatePath">
    <vt:lpwstr>MDS_PP_SecL_092410_LS</vt:lpwstr>
  </property>
  <property fmtid="{D5CDD505-2E9C-101B-9397-08002B2CF9AE}" pid="4" name="ArticulateProjectFull">
    <vt:lpwstr>G:\MDS\development\MDS_SectionL\MDS_PP_SecL_092410_LS.ppta</vt:lpwstr>
  </property>
  <property fmtid="{D5CDD505-2E9C-101B-9397-08002B2CF9AE}" pid="5" name="ArticulateUseProject">
    <vt:lpwstr>1</vt:lpwstr>
  </property>
  <property fmtid="{D5CDD505-2E9C-101B-9397-08002B2CF9AE}" pid="6" name="_AdHocReviewCycleID">
    <vt:r8>-1408970448</vt:r8>
  </property>
  <property fmtid="{D5CDD505-2E9C-101B-9397-08002B2CF9AE}" pid="7" name="_AuthorEmail">
    <vt:lpwstr>Caroline.Gallaher@cms.hhs.gov</vt:lpwstr>
  </property>
  <property fmtid="{D5CDD505-2E9C-101B-9397-08002B2CF9AE}" pid="8" name="_AuthorEmailDisplayName">
    <vt:lpwstr>Gallaher, Caroline D. (CMS/OCSQ)</vt:lpwstr>
  </property>
  <property fmtid="{D5CDD505-2E9C-101B-9397-08002B2CF9AE}" pid="9" name="_EmailSubject">
    <vt:lpwstr>Here are the Powerpoint slides and presentation handouts that I mentioned to you yesterday that ii will also need to have posted on the IRF QRP webpage</vt:lpwstr>
  </property>
  <property fmtid="{D5CDD505-2E9C-101B-9397-08002B2CF9AE}" pid="10" name="_NewReviewCycle">
    <vt:lpwstr/>
  </property>
</Properties>
</file>