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E0645F-7709-4D6E-9F26-CE2D8A95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DB2F74-9E66-4D54-81C6-1744AD40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369D7C-F373-4336-9745-D2F2F51A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A704B23-3225-4F4D-914C-D34FD0BA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0BAA84-A0C8-429E-BBE1-F12C3568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D63811-4702-4623-A786-B8A5972B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0EB231B-079D-4ED6-9F12-28EBEAB5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1421A7-B208-4BC4-AC81-624FCEC5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44564B-8D1A-4AC2-911F-CD253E2A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1BF072-FCCA-46C4-91A9-1595AC7A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F2921F-ABBA-4FD3-A82E-BA1BC89F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691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DE0-D23C-48D1-BCED-6DA0230C104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TextBox 1"/>
          <p:cNvSpPr/>
          <p:nvPr/>
        </p:nvSpPr>
        <p:spPr>
          <a:xfrm>
            <a:off x="5361480" y="63673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1977480" y="6367320"/>
            <a:ext cx="24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CH QRP TTT Conference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 of the JAVA logo and CMS logo and the text Long Term Care Hospital Assessment Submission Entry and Reporting."/>
          <p:cNvPicPr/>
          <p:nvPr/>
        </p:nvPicPr>
        <p:blipFill>
          <a:blip r:embed="rId1"/>
          <a:stretch/>
        </p:blipFill>
        <p:spPr>
          <a:xfrm>
            <a:off x="1066680" y="781200"/>
            <a:ext cx="701064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LASER CARE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LASER CARE items, as published in LASER CARE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ER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s://www.qtso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LongTermCareHospital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s are applied as questions are ans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 Care Hospital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LA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data set by selecting the Help Icon, Help Menu, or F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SER User Guide is included with the installation of LASE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SER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Charles  Padgett</cp:lastModifiedBy>
  <cp:lastPrinted>2012-04-28T19:42:18Z</cp:lastPrinted>
  <dcterms:modified xsi:type="dcterms:W3CDTF">2012-07-24T13:50:16Z</dcterms:modified>
  <cp:revision>770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</Properties>
</file>