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6E5E-070A-4373-887A-FCB250487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9203-7EAA-449F-BFBE-A6121AA81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C790-1C53-40D0-B456-A8EFC154E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830A-39BD-4EAF-8ECA-7F3AE3292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8AD5-9C14-4506-9B42-F406259D1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7792-9EA6-4A8B-AF43-798B184E0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DFF2-1832-4735-8ACB-6CB75600C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4185-242B-4B71-93B3-BC2073283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649D-9194-4EED-A328-1AF32CE8C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 resident assessment validation and entry system, inpatient rehabilitation validation and entry system, HH assessment validation and entry system, LTCH Assessment Submission Entry and Rep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7D91-101B-4FA3-967E-3194A014D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ED8C-A7BC-4B19-AE0A-79BF19919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C3AD-76B3-4502-B1D1-CBFC5674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DC49-D7A8-4460-A598-010084B96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029D-BE05-4B79-BD4B-3F847ABE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EAB1-7D4C-42C1-B9BE-0FD14DC4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1CC0-6D24-431C-8381-B853E9D8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9C29-A222-40AA-8A2E-419EDAEF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8EC7-D861-407C-8BA5-C9B040EA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A6A0-8FF0-485C-B586-E03D48A6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8441-1E2E-46AE-8EA8-7D6E80B5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411D-4719-4905-808F-83D8F518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E499-E583-4458-90E1-3914E8B5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1FBF-4A30-4F34-A990-7CA84DE38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HHS Logo"/>
          <p:cNvPicPr/>
          <p:nvPr/>
        </p:nvPicPr>
        <p:blipFill>
          <a:blip r:embed="rId2"/>
          <a:stretch/>
        </p:blipFill>
        <p:spPr>
          <a:xfrm>
            <a:off x="0" y="0"/>
            <a:ext cx="762120" cy="9144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CMS Identity Mark"/>
          <p:cNvPicPr/>
          <p:nvPr/>
        </p:nvPicPr>
        <p:blipFill>
          <a:blip r:embed="rId3"/>
          <a:stretch/>
        </p:blipFill>
        <p:spPr>
          <a:xfrm>
            <a:off x="7467480" y="0"/>
            <a:ext cx="1676520" cy="61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ision of National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5905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alizing Data Submission for ACA Section 3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cy Mandl, 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sion of Nation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ssment Data Uses and U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ing on the provider type, this data is used for  purposes such as payment, fraud investigation, quality measurement, and  survey and certification purposes, care planning, public reporting, and resea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CMS to monitor and report on the  quality and effectiveness and services provided to beneficia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F72F-223E-4109-A67A-A779CEBE8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consumers to make educated choices about providers (e.g., Nursing Home Compar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quality improvement within provi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include providers, CMS CO, State and Regional Survey and Certification, OIG, Ombudsmen, researchers, and oth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1FDA-5773-4C9D-AAF1-DD61E06D9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t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erve as liaison between policy staff and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Survey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al Off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S Stakeholders (e.g., Office of Clinical Standards and Quality, Survey &amp; Certification, Centers for Medicare, Office of Information Syste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rs/ Suppl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7971-1BAD-4C8D-A953-61781D683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t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Improvements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scal Intermediaries/ Medicare Administrative Contr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al Home Health Intermedi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rediting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porations and Researc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Federal A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61D3-AD9A-4B70-98B7-609B02BC8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r Stakehol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QIES supports data for over  291,100 providers/supplie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ospital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, e.g. acute, LTCHs, IRFs, CAHs, etc.: 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6,17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killed Nursing Facility (SNF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15,10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Nursing Facility (NF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60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CF/M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6,43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ome Health Agency (HHA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11,55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Hospic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3,52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Outpatient Physical Therapy (OPT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2,51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omprehensive Outpatient Rehabilitation Facility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(CORF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33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X-Ray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56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F7D6-F9F7-4538-AAB5-35394B6E9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d-Stage Renal Dialysis Facility (ESRD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,6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ral  Health Clinics (RH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bulatory Surgical Centers (AS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,3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 Procurement Organization (OPO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ty Mental Health Centers (CMH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lly Qualified Health Centers (FQH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,8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ychiatric Residential Treatment Facilities (PRTF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nical Laboratory Improvement Amendments (CLI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3,6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4E0B-5F44-43CC-A794-7CD8AF960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mi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e will now hear more about the QIES data submissions process as it relates to your data submiss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5509-B645-48CE-AE89-683AEF883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DD7D-80E9-45A6-B4DA-F87F1E8B5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Are W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Division of National Systems is located within the Data and Systems Group (DSG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SG is located within the Center for Medicaid and CHIP (Children’s Health Insurance Program) Services (CMCS) at CM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CMS’ fulfillment of statutory quality assurance responsibilities under the Social Security 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major initiatives, such as Home Health Compare and Nursing Home Comp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, evaluate and implement data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operations related to the submission of the data collected for CMS using specified assessment tools,  e.g., the IRF-PA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CC0E-071B-4D01-8A0A-E06437F6D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o?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440" y="17524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d collect quality data on certified providers /suppliers, e.g. Home Health Agen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Survey &amp; Certification efforts, e.g. Skilled Nursing Fac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data system operations for data that is used to improve the quality and effectiveness of services provided by Medicare/ Medicaid/ C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AC14-F477-40F7-9762-A68871CDA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We Do?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S supports the submission of data files to CMS syste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Improvement and Evaluation System (QI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of QIES is the Assessment Submission and Processing (ASAP) System which will be used to collect LTCH submi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data is stored in the QIES National Datab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52DF-1C10-42F6-804A-962F4C533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IE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Is QI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Improvement and Evaluation System (QIES) serves as the focal point for resident and patient assessments, quality indicators, survey and certification, complaint, and enforcement information concerning providers and suppli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QIES we maintain and collect quality data on certified providers/suppli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383C-264B-4B7C-A53D-2F01B1606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IES permits information to be shared quickly and conveniently between federal and state govern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IES users total over 100,0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s data on 17 different types of providers/ suppliers totaling over 291,100 active facilities (as of 2/201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070D-1416-445E-B4D7-3A8B32DF2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8CBB-F7D8-4103-8AB0-102B4BD43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IES: The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IES already provides data submission for all Certified Inpatient Rehabilitation Facilities, Home Health Agencies, Skilled Nursing Facilities/ Nursing Facilities,  and Swing Bed un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ning October 1, 2012, QIES will also provide for data submission for all certified LTCHs as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Assessment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44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 Data instruments currently submitted by specific provider type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atient Rehabilitation Facility Patient Assessment Instrument, IRF-P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Data Set,  MDS 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come and Assessment Information Set, OASIS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est: LTCH CARE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free software for all of these set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RAVEN, IRVEN, HAVEN, 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D1D2-A1D6-44A6-8000-2397F32D7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19:04:58Z</dcterms:created>
  <dc:creator>CMS</dc:creator>
  <dc:description/>
  <dc:language>en-US</dc:language>
  <cp:lastModifiedBy>Jennifer Parrish</cp:lastModifiedBy>
  <cp:lastPrinted>2012-04-28T11:44:49Z</cp:lastPrinted>
  <dcterms:modified xsi:type="dcterms:W3CDTF">2012-05-21T14:31:36Z</dcterms:modified>
  <cp:revision>1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53846888</vt:r8>
  </property>
  <property fmtid="{D5CDD505-2E9C-101B-9397-08002B2CF9AE}" pid="3" name="_AuthorEmail">
    <vt:lpwstr>Caroline.Gallaher@cms.hhs.gov</vt:lpwstr>
  </property>
  <property fmtid="{D5CDD505-2E9C-101B-9397-08002B2CF9AE}" pid="4" name="_AuthorEmailDisplayName">
    <vt:lpwstr>Gallaher, Caroline D. (CMS/OCSQ)</vt:lpwstr>
  </property>
  <property fmtid="{D5CDD505-2E9C-101B-9397-08002B2CF9AE}" pid="5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6" name="_NewReviewCycle">
    <vt:lpwstr/>
  </property>
</Properties>
</file>