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21.jpeg" ContentType="image/jpeg"/>
  <Override PartName="/ppt/media/image16.jpeg" ContentType="image/jpeg"/>
  <Override PartName="/ppt/media/image28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70440" y="8827560"/>
            <a:ext cx="3038400" cy="466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BF37B57-1B96-430F-A028-CD35349CE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FEC6671-0321-40AD-9465-191BE03EA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A5E0393-9D4A-4683-9341-EB23047A0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F9592EE-6CEC-41BC-8BBF-725CAF822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BB66B7B-A3DB-46C6-86BC-84F667877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7838573-CF5D-4978-8EC9-BAB930100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10DF090-3039-44F1-ABEE-439E2BAF1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E4B99F7-D47B-4B6A-90A4-020CE2AC6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8F20B88-7607-44B9-AE2E-F36D127C8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CD32F2D-D557-4CA2-9CC4-89B60797C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3C3A5CE-43E1-41D7-BF1A-90AC49EFD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D706871-AE3E-4B12-BD17-E72DB3D19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562170F-3279-4564-AF9D-BED5E541A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3000742-4697-4DA1-8E93-EBE02BFA7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92D4AE2-E16A-4057-BE11-6DBBC74F0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F7A8EF2-E17B-432B-99F8-921B24334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CC06510-92DF-4119-9170-EC7ACCFFC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660C96F-5417-4FE8-AADC-492142384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1C9419B-401D-4F8A-8B35-B2BF11899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4E91E7A-55E8-4BE6-B928-8F0DF87E5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81FE791-B716-4F4C-94BB-F13A4A1BB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920882C-CB2C-440B-A625-FAA001599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FEC9865-2C15-4460-BC4C-446452FFA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3D81605-7F5B-4E1E-8CDE-A89B65893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D953C13-CB41-4290-84AA-7E06B6D5B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DD4DE30-39ED-49BB-9628-7B94CF522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2CDB0AA-9591-46C2-9ABC-8A477595E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9F7F5C6-5F3A-47FD-94CA-96DDEC2F5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A4166D9-470A-4E70-BC2F-DC8E8F892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CF5EBE8-9D98-49C4-ADF6-8186F4456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0BA4EEB-E0EB-49BD-92DB-47083B831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D03BF3D-116C-4BAD-B296-DC881F50A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22B8412-4D6B-4431-97C3-CDE5FB4CF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D0E35BB-001B-48D5-9893-D51AA53A9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93DA3B7-2C17-4DA2-BB47-1B614695B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6D3D4E3-0D15-46F4-B359-F859AFF30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618508B-A9AF-4E4D-A518-7C321F00D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CD0612C-87AD-465D-AB48-7331ABF47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7A17C7B-898D-43BB-B0BB-3E4EDBF79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3218A1F-8F0B-4598-9930-002A3AAEB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34825AE-B3B8-4E9F-AC39-5EE416F0B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4157D0A-41BA-4254-AD98-774B44683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7355498-46FC-4B8D-A08B-84009021B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2378AD1-C283-4C35-BB07-7EDCF235E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25FB383-8F91-40AA-BBDF-3CC82BEA3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C593C38-2F1B-42B5-80B1-E67A5BF4B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A1C120A-5B94-4A88-B2C4-0AD20AB15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1375940-67E2-405C-B66A-E3220BBAC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A43D9A6-F50B-4899-978D-D19B4EEA0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886F49D-9492-45F4-AB0C-873CA9D32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6332E93-3B14-433D-84A0-16F286C72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05294C1-90BD-45EB-B80B-D67C4FA44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B747D71-70DD-40DB-BB91-8A4007394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71A9B00-DEBA-4DE4-A59A-95B0775BB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3BB5241-AF6C-4BCC-A22F-B17388653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3C72A9C-60B3-4A04-B6A9-CBF717A88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478CE05-1A11-4E96-A532-D9E2AF723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E9B1EF7-50AA-4165-ABA2-A3AE3ACFF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BE6147A-9259-411F-91A9-AEA11BE8D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C10354C-18D7-45E2-9F56-695A75B99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A6A26F7-A52E-41F0-9FFA-4FF19AAF4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7146964-93D6-4DCE-ABF5-0087C9B7B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749F40E-CE06-462D-81C0-A54A137D4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8AF4103-5FFC-407D-9A51-743D57D32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E22C277-48C9-4D13-9FC3-309B6D53E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9C249CF-51F3-40E8-A166-833371BF7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A6E3FF6-7212-4499-A34B-D7759DE79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F98B4DC-3493-4446-A189-C348BC47A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26E3FFD-CF8C-45FE-B374-BB9D108DF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C04DCB1-4F6C-4446-AE30-5801C7815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DFBC19D-DA51-480F-821D-68B0C9697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81C97F1-1D53-43A8-AC53-87A19B37C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E83B830-2655-4D09-8F12-6DEA244B3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FC05A14-6BA8-42AF-92D9-DF57AFC28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9206B39-F194-4AA0-871D-AC37534A4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ACE56D9-55B9-4386-B8B8-BBD543E8C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7A86BB5-7F45-44DC-8757-FAADE12D8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81CD51D-53A7-49B0-BE1F-BEE7B0F47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6498B80-B7A7-4DD8-B40F-0B43EC0AC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B654A3B-447E-4501-9100-2D5FB16F2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903DDD6-C42C-4CA1-91BB-28E649C56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B335F33-8740-477E-847F-337CBBCE1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9AE47AC-08FB-4C5B-B14C-BD6F8AA4D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3793D14-0635-4608-A4DD-A6F067D39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A27B519-8FA4-49F4-85B2-ADF7EE139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746C099-3CD5-4EA4-8B9C-41125A5F2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3C20E0D-9DBA-43F8-9375-4CFDD852E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DA88256-C349-40A7-832B-BAB86A308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1280" y="4417560"/>
            <a:ext cx="5607000" cy="4179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513A326-B47D-4D1A-9B39-E23BB0E4B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3120" y="159984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104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3120" y="3908520"/>
            <a:ext cx="23061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9880" y="390852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9880" y="1599840"/>
            <a:ext cx="3495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908520"/>
            <a:ext cx="71625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ooter Placeholder 3"/>
          <p:cNvSpPr/>
          <p:nvPr/>
        </p:nvSpPr>
        <p:spPr>
          <a:xfrm>
            <a:off x="1828800" y="6492960"/>
            <a:ext cx="1600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RF-PAI Items 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Footer Placeholder 3"/>
          <p:cNvSpPr/>
          <p:nvPr/>
        </p:nvSpPr>
        <p:spPr>
          <a:xfrm>
            <a:off x="4038480" y="6492960"/>
            <a:ext cx="262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ssure Ulcers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Footer Placeholder 3"/>
          <p:cNvSpPr/>
          <p:nvPr/>
        </p:nvSpPr>
        <p:spPr>
          <a:xfrm>
            <a:off x="7086600" y="649296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54B6-F970-472A-9C89-452807760317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MS HHS Bckgr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Title_Pages_nopeopl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19320" y="1599840"/>
            <a:ext cx="7162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240" indent="-32076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1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1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RF-PAI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ressure Ulcer Item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Assessment a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ing Guidelines, Cont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010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if the pressure ulcer wa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t on admission and discharg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for location and stage at time of admission and dischar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ervation period for pressure ulcer items i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 day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port unstageable pressure ulcers on the IRF-P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8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rrent Number of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age 2 Pressure Ulcers 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8A Number of Stage 2 Pressure Ulcer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42640" y="1598760"/>
            <a:ext cx="754380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number of Stage 2 pressure ulcers present at admission and dis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Image of item 48A on the IRF-PAI item set, documenting the number of Stage 2 pressure ulcers on Admission and Discharge."/>
          <p:cNvPicPr/>
          <p:nvPr/>
        </p:nvPicPr>
        <p:blipFill>
          <a:blip r:embed="rId1"/>
          <a:stretch/>
        </p:blipFill>
        <p:spPr>
          <a:xfrm>
            <a:off x="1249200" y="3149640"/>
            <a:ext cx="758988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2 Pressure Ulc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18960" y="159984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al thicknes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derm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ing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iny or dry 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llow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l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 or pink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und b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3459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thout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loug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ui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Image of a Stage 2 pressure ulcer."/>
          <p:cNvPicPr/>
          <p:nvPr/>
        </p:nvPicPr>
        <p:blipFill>
          <a:blip r:embed="rId1"/>
          <a:stretch/>
        </p:blipFill>
        <p:spPr>
          <a:xfrm>
            <a:off x="4495680" y="2133720"/>
            <a:ext cx="39196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tage 2 Pressure Ulcers, Cont.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4" descr="Image of a Stage 2 pressure ulcer, presenting as an intact blister."/>
          <p:cNvPicPr/>
          <p:nvPr/>
        </p:nvPicPr>
        <p:blipFill>
          <a:blip r:embed="rId1"/>
          <a:stretch/>
        </p:blipFill>
        <p:spPr>
          <a:xfrm>
            <a:off x="1523880" y="1800360"/>
            <a:ext cx="6667560" cy="3609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48765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also present as 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act or open/ ruptur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8A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14280" y="1598400"/>
            <a:ext cx="404352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Stage 2 pressure ulcer from a suspected deep tissue inju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only Stage 2 pressure ulcers in 48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skin tear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 burns, Moisture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d Skin Dam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xcoriation in 48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Image of suspected deep tissue injury."/>
          <p:cNvPicPr/>
          <p:nvPr/>
        </p:nvPicPr>
        <p:blipFill>
          <a:blip r:embed="rId1"/>
          <a:stretch/>
        </p:blipFill>
        <p:spPr>
          <a:xfrm>
            <a:off x="5364000" y="3886200"/>
            <a:ext cx="2527560" cy="1981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Image of a Stage 2 pressure ulcer."/>
          <p:cNvPicPr/>
          <p:nvPr/>
        </p:nvPicPr>
        <p:blipFill>
          <a:blip r:embed="rId2"/>
          <a:srcRect l="0" t="0" r="0" b="35483"/>
          <a:stretch/>
        </p:blipFill>
        <p:spPr>
          <a:xfrm>
            <a:off x="5029200" y="1523880"/>
            <a:ext cx="319896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A Coding Instruction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mission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14280" y="1598760"/>
            <a:ext cx="7320240" cy="28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2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s present on admiss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Image of item 48A on the IRF-PAI item set, documenting the number of Stage 2 pressure ulcers on Admission and Discharge. The field for Admission is emphasized."/>
          <p:cNvPicPr/>
          <p:nvPr/>
        </p:nvPicPr>
        <p:blipFill>
          <a:blip r:embed="rId1"/>
          <a:stretch/>
        </p:blipFill>
        <p:spPr>
          <a:xfrm>
            <a:off x="1523880" y="3730680"/>
            <a:ext cx="6865920" cy="993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"/>
          <p:cNvSpPr/>
          <p:nvPr/>
        </p:nvSpPr>
        <p:spPr>
          <a:xfrm>
            <a:off x="5181480" y="3875040"/>
            <a:ext cx="1828800" cy="849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Image of item 48A on the IRF-PAI item set, documenting the number of Stage 2 pressure ulcers on Admission and Discharge. The field for Discharge is emphasized."/>
          <p:cNvPicPr/>
          <p:nvPr/>
        </p:nvPicPr>
        <p:blipFill>
          <a:blip r:embed="rId1"/>
          <a:stretch/>
        </p:blipFill>
        <p:spPr>
          <a:xfrm>
            <a:off x="1409760" y="3813120"/>
            <a:ext cx="6856200" cy="9907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A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harge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214280" y="1598400"/>
            <a:ext cx="7320240" cy="19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2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s present at dischar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6324480" y="3809880"/>
            <a:ext cx="194148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s 48B and C</a:t>
            </a:r>
            <a:br>
              <a:rPr sz="5400"/>
            </a:b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umber of Stage 3 and 4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sure Ulcers 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s 48B and 48C Number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ge 3 or 4 Pressure Ulcer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19320" y="1598400"/>
            <a:ext cx="68580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the number of Stage 3 or 4 pressure ulcers present at admission and dischar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Image of item 48B on the IRF-PAI item set, documenting the number of Stage 3 pressure ulcers on Admission and Discharge."/>
          <p:cNvPicPr/>
          <p:nvPr/>
        </p:nvPicPr>
        <p:blipFill>
          <a:blip r:embed="rId1"/>
          <a:stretch/>
        </p:blipFill>
        <p:spPr>
          <a:xfrm>
            <a:off x="1447920" y="3276720"/>
            <a:ext cx="6823080" cy="914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Image of item 48C on the IRF-PAI item set, documenting the number of Stage 4 pressure ulcers on Admission and Discharge."/>
          <p:cNvPicPr/>
          <p:nvPr/>
        </p:nvPicPr>
        <p:blipFill>
          <a:blip r:embed="rId2"/>
          <a:stretch/>
        </p:blipFill>
        <p:spPr>
          <a:xfrm>
            <a:off x="1981080" y="4495680"/>
            <a:ext cx="6986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sentation 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19320" y="1598400"/>
            <a:ext cx="72388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Pressure Ulcers covered basic concepts associated with pressure ulcers and other skin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focuses on assessment guidelines and coding of Pressure Ulcer items in IRF-P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3 Pressure Ulc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18960" y="159984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thick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l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taneo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 may b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bone, tend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uscle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ugh may be pres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obscure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of tissue los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undermining and tunne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varies by anatomical lo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Image of a Stage 3 pressure ulcer."/>
          <p:cNvPicPr/>
          <p:nvPr/>
        </p:nvPicPr>
        <p:blipFill>
          <a:blip r:embed="rId1"/>
          <a:stretch/>
        </p:blipFill>
        <p:spPr>
          <a:xfrm>
            <a:off x="5791320" y="1981080"/>
            <a:ext cx="2801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e 4 Pressure Ulc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3920" y="1598760"/>
            <a:ext cx="7548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thickn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sed bon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donor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ough or eschar ma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presen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some par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 wound b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mining and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varies by anatomical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" descr="Image of a Stage 4 pressure ulcer with undermining and tunneling."/>
          <p:cNvPicPr/>
          <p:nvPr/>
        </p:nvPicPr>
        <p:blipFill>
          <a:blip r:embed="rId1"/>
          <a:stretch/>
        </p:blipFill>
        <p:spPr>
          <a:xfrm>
            <a:off x="5486400" y="1981080"/>
            <a:ext cx="33051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mage of item 48C on the IRF-PAI item set, documenting the number of Stage 4 pressure ulcers on Admission and Discharge. The field for Admission is emphasized and coded zero."/>
          <p:cNvPicPr/>
          <p:nvPr/>
        </p:nvPicPr>
        <p:blipFill>
          <a:blip r:embed="rId1"/>
          <a:stretch/>
        </p:blipFill>
        <p:spPr>
          <a:xfrm>
            <a:off x="1905120" y="4848120"/>
            <a:ext cx="5867280" cy="10954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B and 48C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mission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4280" y="1598400"/>
            <a:ext cx="732024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3 and 4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s present on admiss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Image of item 48B on the IRF-PAI item set, documenting the number of Stage 3 pressure ulcers on Admission and Discharge. The field for Admission is emphasized and coded one."/>
          <p:cNvPicPr/>
          <p:nvPr/>
        </p:nvPicPr>
        <p:blipFill>
          <a:blip r:embed="rId2"/>
          <a:stretch/>
        </p:blipFill>
        <p:spPr>
          <a:xfrm>
            <a:off x="1219320" y="3476520"/>
            <a:ext cx="5614920" cy="10670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0"/>
          <p:cNvSpPr/>
          <p:nvPr/>
        </p:nvSpPr>
        <p:spPr>
          <a:xfrm>
            <a:off x="4173480" y="3487680"/>
            <a:ext cx="158292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014800" y="4859280"/>
            <a:ext cx="1582920" cy="99396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B and 48C Coding Instruct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harge Fiel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18960" y="1598400"/>
            <a:ext cx="701028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tage 3 or 4 pressure ulcers present at dischar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ne, en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Image of item 48C on the IRF-PAI item set, documenting the number of Stage 4 pressure ulcers on Admission and Discharge. The field for Discharge is emphasized and coded zero."/>
          <p:cNvPicPr/>
          <p:nvPr/>
        </p:nvPicPr>
        <p:blipFill>
          <a:blip r:embed="rId1"/>
          <a:stretch/>
        </p:blipFill>
        <p:spPr>
          <a:xfrm>
            <a:off x="2286000" y="4648320"/>
            <a:ext cx="5638680" cy="1023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Image of item 48B on the IRF-PAI item set, documenting the number of Stage 3 pressure ulcers on Admission and Discharge. The field for Discharge is emphasized and coded one."/>
          <p:cNvPicPr/>
          <p:nvPr/>
        </p:nvPicPr>
        <p:blipFill>
          <a:blip r:embed="rId2"/>
          <a:stretch/>
        </p:blipFill>
        <p:spPr>
          <a:xfrm>
            <a:off x="1371600" y="3505320"/>
            <a:ext cx="5535720" cy="838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0"/>
          <p:cNvSpPr/>
          <p:nvPr/>
        </p:nvSpPr>
        <p:spPr>
          <a:xfrm>
            <a:off x="5410080" y="3427560"/>
            <a:ext cx="1582920" cy="993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6313320" y="4645080"/>
            <a:ext cx="1584360" cy="9936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8 Scenario #1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18960" y="1598400"/>
            <a:ext cx="7543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dmission, one pressure ulcer wa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d and documented in the patient’s medical recor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noted to be a full thickness ulcer with no exposure of bone, tendon or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ther pressure ulcers were docum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8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#1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18960" y="1598760"/>
            <a:ext cx="75438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em 48B, Stage 3, 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Admiss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ems 48A and C, en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Admission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"/>
          <p:cNvGrpSpPr/>
          <p:nvPr/>
        </p:nvGrpSpPr>
        <p:grpSpPr>
          <a:xfrm>
            <a:off x="1300320" y="4038480"/>
            <a:ext cx="6472080" cy="914400"/>
            <a:chOff x="1300320" y="4038480"/>
            <a:chExt cx="6472080" cy="914400"/>
          </a:xfrm>
        </p:grpSpPr>
        <p:pic>
          <p:nvPicPr>
            <p:cNvPr id="162" name="Picture 3" descr=""/>
            <p:cNvPicPr/>
            <p:nvPr/>
          </p:nvPicPr>
          <p:blipFill>
            <a:blip r:embed="rId1"/>
            <a:srcRect l="2377" t="53194" r="0" b="34576"/>
            <a:stretch/>
          </p:blipFill>
          <p:spPr>
            <a:xfrm>
              <a:off x="1300320" y="4124160"/>
              <a:ext cx="6472080" cy="828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3" name="TextBox 7"/>
            <p:cNvSpPr/>
            <p:nvPr/>
          </p:nvSpPr>
          <p:spPr>
            <a:xfrm>
              <a:off x="5226120" y="403848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4" name="Group 4"/>
          <p:cNvGrpSpPr/>
          <p:nvPr/>
        </p:nvGrpSpPr>
        <p:grpSpPr>
          <a:xfrm>
            <a:off x="1300320" y="4876920"/>
            <a:ext cx="6472080" cy="914400"/>
            <a:chOff x="1300320" y="4876920"/>
            <a:chExt cx="6472080" cy="914400"/>
          </a:xfrm>
        </p:grpSpPr>
        <p:pic>
          <p:nvPicPr>
            <p:cNvPr id="165" name="Picture 3" descr="Image of item 48C on the IRF-PAI item set, documenting the number of Stage 4 pressure ulcers on Admission and Discharge. The field for Admission is coded zero."/>
            <p:cNvPicPr/>
            <p:nvPr/>
          </p:nvPicPr>
          <p:blipFill>
            <a:blip r:embed="rId2"/>
            <a:srcRect l="2377" t="87780" r="0" b="0"/>
            <a:stretch/>
          </p:blipFill>
          <p:spPr>
            <a:xfrm>
              <a:off x="1300320" y="4952880"/>
              <a:ext cx="6472080" cy="838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6" name="TextBox 8"/>
            <p:cNvSpPr/>
            <p:nvPr/>
          </p:nvSpPr>
          <p:spPr>
            <a:xfrm>
              <a:off x="5226120" y="487692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67" name="Group 1"/>
          <p:cNvGrpSpPr/>
          <p:nvPr/>
        </p:nvGrpSpPr>
        <p:grpSpPr>
          <a:xfrm>
            <a:off x="1295280" y="3200400"/>
            <a:ext cx="6477120" cy="914400"/>
            <a:chOff x="1295280" y="3200400"/>
            <a:chExt cx="6477120" cy="914400"/>
          </a:xfrm>
        </p:grpSpPr>
        <p:pic>
          <p:nvPicPr>
            <p:cNvPr id="168" name="Picture 2" descr=""/>
            <p:cNvPicPr/>
            <p:nvPr/>
          </p:nvPicPr>
          <p:blipFill>
            <a:blip r:embed="rId3"/>
            <a:srcRect l="0" t="13340" r="2383" b="13340"/>
            <a:stretch/>
          </p:blipFill>
          <p:spPr>
            <a:xfrm>
              <a:off x="1295280" y="3247920"/>
              <a:ext cx="6477120" cy="866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69" name="TextBox 9"/>
            <p:cNvSpPr/>
            <p:nvPr/>
          </p:nvSpPr>
          <p:spPr>
            <a:xfrm>
              <a:off x="5257800" y="320040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8 Scenario #2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18960" y="1598400"/>
            <a:ext cx="69339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discharge, a patient has one pressure ulcer that is documented in the medical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sure ulcer is covered with hard black necrotic t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8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#2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18960" y="1598400"/>
            <a:ext cx="75438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pressure ulcer is unstage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should not be included on the IRF-P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"/>
          <p:cNvGrpSpPr/>
          <p:nvPr/>
        </p:nvGrpSpPr>
        <p:grpSpPr>
          <a:xfrm>
            <a:off x="1798560" y="2971800"/>
            <a:ext cx="5211720" cy="743040"/>
            <a:chOff x="1798560" y="2971800"/>
            <a:chExt cx="5211720" cy="743040"/>
          </a:xfrm>
        </p:grpSpPr>
        <p:pic>
          <p:nvPicPr>
            <p:cNvPr id="175" name="Picture 1" descr="Image of item 48A on the IRF-PAI item set, documenting the number of Stage 2 pressure ulcers on Admission and Discharge. The field for Admission and the field for Discharge are coded zero."/>
            <p:cNvPicPr/>
            <p:nvPr/>
          </p:nvPicPr>
          <p:blipFill>
            <a:blip r:embed="rId1"/>
            <a:stretch/>
          </p:blipFill>
          <p:spPr>
            <a:xfrm>
              <a:off x="1798560" y="3052440"/>
              <a:ext cx="5211720" cy="6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Box 4"/>
            <p:cNvSpPr/>
            <p:nvPr/>
          </p:nvSpPr>
          <p:spPr>
            <a:xfrm>
              <a:off x="507708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6327360" y="297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78" name="Group 2"/>
          <p:cNvGrpSpPr/>
          <p:nvPr/>
        </p:nvGrpSpPr>
        <p:grpSpPr>
          <a:xfrm>
            <a:off x="1798560" y="3925800"/>
            <a:ext cx="5211720" cy="739800"/>
            <a:chOff x="1798560" y="3925800"/>
            <a:chExt cx="5211720" cy="739800"/>
          </a:xfrm>
        </p:grpSpPr>
        <p:pic>
          <p:nvPicPr>
            <p:cNvPr id="179" name="Picture 2" descr=""/>
            <p:cNvPicPr/>
            <p:nvPr/>
          </p:nvPicPr>
          <p:blipFill>
            <a:blip r:embed="rId2"/>
            <a:stretch/>
          </p:blipFill>
          <p:spPr>
            <a:xfrm>
              <a:off x="1798560" y="3967200"/>
              <a:ext cx="521172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15"/>
            <p:cNvSpPr/>
            <p:nvPr/>
          </p:nvSpPr>
          <p:spPr>
            <a:xfrm>
              <a:off x="5077080" y="3925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1" name="TextBox 16"/>
            <p:cNvSpPr/>
            <p:nvPr/>
          </p:nvSpPr>
          <p:spPr>
            <a:xfrm>
              <a:off x="6327360" y="3925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82" name="Group 3"/>
          <p:cNvGrpSpPr/>
          <p:nvPr/>
        </p:nvGrpSpPr>
        <p:grpSpPr>
          <a:xfrm>
            <a:off x="1798560" y="4910040"/>
            <a:ext cx="5211720" cy="725760"/>
            <a:chOff x="1798560" y="4910040"/>
            <a:chExt cx="5211720" cy="725760"/>
          </a:xfrm>
        </p:grpSpPr>
        <p:pic>
          <p:nvPicPr>
            <p:cNvPr id="183" name="Picture 3" descr=""/>
            <p:cNvPicPr/>
            <p:nvPr/>
          </p:nvPicPr>
          <p:blipFill>
            <a:blip r:embed="rId3"/>
            <a:stretch/>
          </p:blipFill>
          <p:spPr>
            <a:xfrm>
              <a:off x="1798560" y="4953600"/>
              <a:ext cx="5211720" cy="68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17"/>
            <p:cNvSpPr/>
            <p:nvPr/>
          </p:nvSpPr>
          <p:spPr>
            <a:xfrm>
              <a:off x="5077080" y="491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85" name="TextBox 18"/>
            <p:cNvSpPr/>
            <p:nvPr/>
          </p:nvSpPr>
          <p:spPr>
            <a:xfrm>
              <a:off x="6327360" y="491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9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sening in Pressure Ulcer Status Since Admission</a:t>
            </a:r>
            <a:br>
              <a:rPr sz="4800"/>
            </a:br>
            <a:br>
              <a:rPr sz="48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9 Worsening Pressur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lcer Status Since Admi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42640" y="1598760"/>
            <a:ext cx="708660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the number of current pressure ulcers at discharge that that have worsened since ad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An image of the description and fields for item 49 in the IRF-PAI item set."/>
          <p:cNvPicPr/>
          <p:nvPr/>
        </p:nvPicPr>
        <p:blipFill>
          <a:blip r:embed="rId1"/>
          <a:stretch/>
        </p:blipFill>
        <p:spPr>
          <a:xfrm>
            <a:off x="1703520" y="2895480"/>
            <a:ext cx="6145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1523880"/>
            <a:ext cx="7162560" cy="43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ressure ulcer items that are documented in the IRF-P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guidelines for assessing and coding each i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the IRF-PAI pressure ulcer items correctly and accu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49 Worsening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ssure Ulcer Stat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43000" y="1598400"/>
            <a:ext cx="68580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cludes pressure ulcers at discharge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pres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a less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erical st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Image of a pair of hands pulling a medical record from a shelf of records."/>
          <p:cNvPicPr/>
          <p:nvPr/>
        </p:nvPicPr>
        <p:blipFill>
          <a:blip r:embed="rId1"/>
          <a:stretch/>
        </p:blipFill>
        <p:spPr>
          <a:xfrm>
            <a:off x="5407200" y="2198520"/>
            <a:ext cx="25905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16080" y="1600200"/>
            <a:ext cx="7547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be easier to assess worsening status and to code these items if a facility documents and tracks pressure ulcer status on a routine b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Image of two clinicians reviewing a patient's medical record."/>
          <p:cNvPicPr/>
          <p:nvPr/>
        </p:nvPicPr>
        <p:blipFill>
          <a:blip r:embed="rId1"/>
          <a:stretch/>
        </p:blipFill>
        <p:spPr>
          <a:xfrm>
            <a:off x="3444840" y="3124080"/>
            <a:ext cx="341316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ing a pressure ulcer that was unstageable at ad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consider it to be worse at discharge.  If it becomes stageable, consider it as present on admission.  Code at the stage when it first became stage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worsens after it becomes stageable, it should be coded as worse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Example #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a press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cer that is covered in necrotic tiss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annot be stag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stay, the pressure ulcer is revealed to be a Stage 4 pressure ulc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this Stage 4 pressure ulcer be coded in Item 49 as a “new or worsening” pressure ulc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Guidelines</a:t>
            </a: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218960" y="1598400"/>
            <a:ext cx="7543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ing a stageable pressure ulcer that becomes unstageable since admi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it becomes Unstageable due to Slough or Eschar, do not code as worsen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it becomes unstageable and then is debrided so it can be staged, compare its stage before and after it was unstageable. If the stage has worsened, code it as worsen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Coding Example #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a Stage 3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stay slough covers much of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ulcer is debrided and found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 Stage 4 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this Stage 4 pressure ulcer be coded in Item 49 as a “new or worsening” pressure ulc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A Stage 2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18960" y="1598760"/>
            <a:ext cx="6629400" cy="26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2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2 ulcers are present, are new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" descr="Image of item 49A on the IRF-PAI item set, documenting the number of current Stage 2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1880" y="4572000"/>
            <a:ext cx="65325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B Stage 3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218960" y="1598400"/>
            <a:ext cx="7086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3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3 pressure ulcers are present, are new,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Image of item 49B on the IRF-PAI item set, documenting the number of current Stage 3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6560" y="4724280"/>
            <a:ext cx="6577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9C Stage 4 Coding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218960" y="1598400"/>
            <a:ext cx="70102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urrent Stage 4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ulcers at discharge that were not present or were at a lesser stage on admiss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f no Stage 4 pressure ulcers are present, are new, or have wors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" descr="Image of item 49C on the IRF-PAI item set, documenting the number of current Stage 4 pressure ulcers that were not present or were at a lesser stage on admission."/>
          <p:cNvPicPr/>
          <p:nvPr/>
        </p:nvPicPr>
        <p:blipFill>
          <a:blip r:embed="rId1"/>
          <a:stretch/>
        </p:blipFill>
        <p:spPr>
          <a:xfrm>
            <a:off x="1636560" y="4792680"/>
            <a:ext cx="66056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49 Scenario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’s admission assessment documented a Stage 2 pressure ulc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right ischial tubero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discharge, the pressure ulcer has deteriorated to a Stage 3 pressure ul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no other pressure ulcers at ad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 49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Pressure Ulcer It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F-PAI Pressure Ulcer I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48.  Current Number of Unheal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Ulcers at Each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49.  Worsening in Pressure Ulc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50.  Healed Pressure Ul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19320" y="1598760"/>
            <a:ext cx="7315200" cy="13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Item 49B, Stage 3, 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Items 49A and 49C, 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447920" y="3220920"/>
            <a:ext cx="6521400" cy="2036880"/>
            <a:chOff x="1447920" y="3220920"/>
            <a:chExt cx="6521400" cy="2036880"/>
          </a:xfrm>
        </p:grpSpPr>
        <p:pic>
          <p:nvPicPr>
            <p:cNvPr id="218" name="Picture 1" descr=""/>
            <p:cNvPicPr/>
            <p:nvPr/>
          </p:nvPicPr>
          <p:blipFill>
            <a:blip r:embed="rId1"/>
            <a:stretch/>
          </p:blipFill>
          <p:spPr>
            <a:xfrm>
              <a:off x="1447920" y="3276000"/>
              <a:ext cx="6521400" cy="1981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219" name="TextBox 2"/>
            <p:cNvSpPr/>
            <p:nvPr/>
          </p:nvSpPr>
          <p:spPr>
            <a:xfrm>
              <a:off x="6480360" y="380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0" name="TextBox 6"/>
            <p:cNvSpPr/>
            <p:nvPr/>
          </p:nvSpPr>
          <p:spPr>
            <a:xfrm>
              <a:off x="6480360" y="322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21" name="TextBox 7"/>
            <p:cNvSpPr/>
            <p:nvPr/>
          </p:nvSpPr>
          <p:spPr>
            <a:xfrm>
              <a:off x="6480360" y="4419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50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ealed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sure Ulcers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em 50 Healed Pressure Ulc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142640" y="1598760"/>
            <a:ext cx="746748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any unhealed pressure ulcers were present on admission (Item 50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, the number of Stage 2, 3, and 4 pressure ulcers that have completely closed since admission (Items 50B, C, and 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50 Coding Guidelin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“healed pressure ulcer” is one 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cl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epitheli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spcBef>
                <a:spcPts val="18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ed completely with epithelial tissue or resurfaced with new skin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en 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a continues to have some surface disco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reverse s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A Coding Instru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219320" y="1598760"/>
            <a:ext cx="7315200" cy="9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m 50A. Unhealed Pressur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cers Present on Admi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" descr="Image of item 50A Were pressure ulcers present on admission? on the IRF-PAI item set."/>
          <p:cNvPicPr/>
          <p:nvPr/>
        </p:nvPicPr>
        <p:blipFill>
          <a:blip r:embed="rId1"/>
          <a:stretch/>
        </p:blipFill>
        <p:spPr>
          <a:xfrm>
            <a:off x="2111400" y="2941560"/>
            <a:ext cx="5280120" cy="746280"/>
          </a:xfrm>
          <a:prstGeom prst="rect">
            <a:avLst/>
          </a:prstGeom>
          <a:ln w="0">
            <a:noFill/>
          </a:ln>
        </p:spPr>
      </p:pic>
      <p:sp>
        <p:nvSpPr>
          <p:cNvPr id="230" name="Content Placeholder 2"/>
          <p:cNvSpPr/>
          <p:nvPr/>
        </p:nvSpPr>
        <p:spPr>
          <a:xfrm>
            <a:off x="1219320" y="4038480"/>
            <a:ext cx="3504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0. 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                            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98480" indent="-45540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p Items 50B-D.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Content Placeholder 3"/>
          <p:cNvSpPr/>
          <p:nvPr/>
        </p:nvSpPr>
        <p:spPr>
          <a:xfrm>
            <a:off x="4572000" y="4038480"/>
            <a:ext cx="4343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1. Yes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Items 50B-D.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50B, 50C and 50D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ding Instruction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219320" y="1598400"/>
            <a:ext cx="76960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ms 50B, C and D. Stage 2, 3 or 4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sure Ulcers on Admission That Have Hea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pressure ulcers at that stag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admission which have completely closed at discharg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-3412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none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" descr="Image of items 50B Stage 2, 50C Stage 3, and 50D Stage 4 of the IR-PAI item set. This indicates the number of pressure ulcers on admission that have healed."/>
          <p:cNvPicPr/>
          <p:nvPr/>
        </p:nvPicPr>
        <p:blipFill>
          <a:blip r:embed="rId1"/>
          <a:stretch/>
        </p:blipFill>
        <p:spPr>
          <a:xfrm>
            <a:off x="3467160" y="4049640"/>
            <a:ext cx="491472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em 50 Scenario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219320" y="1598400"/>
            <a:ext cx="73152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ient is admitted with one Stage 2 pressure ulc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discharge, the ulcer is heal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Items 50B, C, and D be co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enario Correct Coding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219320" y="1598400"/>
            <a:ext cx="7315200" cy="16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B.  Stage 2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 pressu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cer that hea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C.  Stage 3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m 50D.  Stage 4.  Co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600200" y="3936960"/>
            <a:ext cx="6019920" cy="1854360"/>
            <a:chOff x="1600200" y="3936960"/>
            <a:chExt cx="6019920" cy="1854360"/>
          </a:xfrm>
        </p:grpSpPr>
        <p:pic>
          <p:nvPicPr>
            <p:cNvPr id="240" name="Picture 1" descr=""/>
            <p:cNvPicPr/>
            <p:nvPr/>
          </p:nvPicPr>
          <p:blipFill>
            <a:blip r:embed="rId1"/>
            <a:stretch/>
          </p:blipFill>
          <p:spPr>
            <a:xfrm>
              <a:off x="1600200" y="3936960"/>
              <a:ext cx="6019920" cy="18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Box 2"/>
            <p:cNvSpPr/>
            <p:nvPr/>
          </p:nvSpPr>
          <p:spPr>
            <a:xfrm>
              <a:off x="6180120" y="3957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2" name="TextBox 6"/>
            <p:cNvSpPr/>
            <p:nvPr/>
          </p:nvSpPr>
          <p:spPr>
            <a:xfrm>
              <a:off x="6180120" y="4491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3" name="TextBox 7"/>
            <p:cNvSpPr/>
            <p:nvPr/>
          </p:nvSpPr>
          <p:spPr>
            <a:xfrm>
              <a:off x="6180120" y="5024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727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ortance of Clinical Assess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391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lete and ongoing skin assess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d by clinical standards is ess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ssessment, which identifies and evaluates all areas at risk for constant pressure and determines the etiology of all skin ulcers and skin conditions/problems, should direct the appropriate skin management interven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ion of Pressure Ulcer items in the IRF-PAI does not replace this assess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453960"/>
            <a:ext cx="8356680" cy="59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tem 48</a:t>
            </a:r>
            <a:br>
              <a:rPr sz="5400"/>
            </a:br>
            <a:br>
              <a:rPr sz="5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rent Number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healed Pressure Ulcer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Each Stage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m 48 Current Number of Unhealed Pressure Ulcers at Each St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42640" y="1598400"/>
            <a:ext cx="7543800" cy="10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curr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unhealed pressure ulcers at Stages 2, 3 and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" descr="Image of item 48A on the IRF-PAI item set, documenting the number of Stage 2 pressure ulcers on Admission and Discharge."/>
          <p:cNvPicPr/>
          <p:nvPr/>
        </p:nvPicPr>
        <p:blipFill>
          <a:blip r:embed="rId1"/>
          <a:stretch/>
        </p:blipFill>
        <p:spPr>
          <a:xfrm>
            <a:off x="1295280" y="2917800"/>
            <a:ext cx="5211720" cy="663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Image of item 48B on the IRF-PAI item set, documenting the number of Stage 3 pressure ulcers on Admission and Discharge."/>
          <p:cNvPicPr/>
          <p:nvPr/>
        </p:nvPicPr>
        <p:blipFill>
          <a:blip r:embed="rId2"/>
          <a:stretch/>
        </p:blipFill>
        <p:spPr>
          <a:xfrm>
            <a:off x="2271600" y="3801960"/>
            <a:ext cx="5173920" cy="69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Image of item 48C on the IRF-PAI item set, documenting the number of Stage 4 pressure ulcers on Admission and Discharge."/>
          <p:cNvPicPr/>
          <p:nvPr/>
        </p:nvPicPr>
        <p:blipFill>
          <a:blip r:embed="rId3"/>
          <a:stretch/>
        </p:blipFill>
        <p:spPr>
          <a:xfrm>
            <a:off x="3352680" y="4724280"/>
            <a:ext cx="51818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ging Defini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has adap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007 NPUAP defini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ategories of stag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:  www.npuap.o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diagrams of ulc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s can be download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ducational 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Image of the National Pressure Ulcer Advisory Panel logo. Reproduced by permission."/>
          <p:cNvPicPr/>
          <p:nvPr/>
        </p:nvPicPr>
        <p:blipFill>
          <a:blip r:embed="rId1"/>
          <a:srcRect l="3892" t="0" r="67460" b="0"/>
          <a:stretch/>
        </p:blipFill>
        <p:spPr>
          <a:xfrm>
            <a:off x="5638680" y="3124080"/>
            <a:ext cx="2878200" cy="17384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107" name="TextBox 1"/>
          <p:cNvSpPr/>
          <p:nvPr/>
        </p:nvSpPr>
        <p:spPr>
          <a:xfrm>
            <a:off x="5636880" y="4865760"/>
            <a:ext cx="210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d with permission</a:t>
            </a: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Assessment an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ing Guidel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curr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unheal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c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ead-to-toe assessment of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sual inspection and palpation to identify appropriate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only wounds that are the result of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deepest anatomical stage of each ul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reverse st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19:19:05Z</dcterms:created>
  <dc:creator>Centers for Medicare &amp; Medicaid Services</dc:creator>
  <dc:description/>
  <dc:language>en-US</dc:language>
  <cp:lastModifiedBy>Jennifer Parrish</cp:lastModifiedBy>
  <cp:lastPrinted>2007-05-20T22:53:41Z</cp:lastPrinted>
  <dcterms:modified xsi:type="dcterms:W3CDTF">2012-05-14T13:15:57Z</dcterms:modified>
  <cp:revision>1302</cp:revision>
  <dc:subject>MDS Training Materials</dc:subject>
  <dc:title>Section M Skin Condi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302051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