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33C3515-83BC-44A7-85B5-F2E1E99BA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7C1C87A-A0C5-4E9B-BF8A-0DAAD5BCD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7830734-1CD6-4BF5-9EA6-EB152FF8B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3614D16-8AD8-41C9-9A0F-845D2B7A5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0030D76-E854-4D6D-875D-A2270869E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1E506D0-E9AD-4DF1-B967-15EF80BD3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56FF725-09C8-409E-AF4F-C43F73F27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180E34F-417F-4679-B2AF-E23F786A6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0677A7C-AB84-4E62-89DD-DFA1B822C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6D789D9-458E-4999-9D1D-1EB4A0566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86E94E4-FB7C-471F-B20B-871ADD111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Univers 47 CondensedLight"/>
              </a:rPr>
              <a:t>NOTE:</a:t>
            </a:r>
            <a:r>
              <a:rPr b="0" lang="en-US" sz="800" spc="-1" strike="noStrike">
                <a:solidFill>
                  <a:srgbClr val="000000"/>
                </a:solidFill>
                <a:latin typeface="Univers 47 CondensedLight"/>
              </a:rPr>
              <a:t> once submitted and accepted the manual form process must be utilized to correct the subreq valu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2BAD815-11EC-4D8D-9C71-2D40DC1AE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Univers 47 CondensedLight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DA837C6-1E69-4B7A-B701-342AD3B58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7086600" y="633240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CED2-5820-4EA8-BE97-F7C7F828BEFC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qtso.com/ravendownload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help@qtso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mage depicting the JAVA logo, the CMS logo, and the title Inpatient Rehabilitation Validation and Entry System (jIRVEN)."/>
          <p:cNvPicPr/>
          <p:nvPr/>
        </p:nvPicPr>
        <p:blipFill>
          <a:blip r:embed="rId1"/>
          <a:stretch/>
        </p:blipFill>
        <p:spPr>
          <a:xfrm>
            <a:off x="1208160" y="1128600"/>
            <a:ext cx="672768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5720" y="1599840"/>
            <a:ext cx="736596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/ Expor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5720" y="1599840"/>
            <a:ext cx="76518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 layout based o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r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ML layout for submission to AS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4200" y="374760"/>
            <a:ext cx="82440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lidation Utility Tool (VU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16080" y="1599840"/>
            <a:ext cx="753912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T – Validation Utility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idate IRF-PAI submission files in XML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forces edits that are mapped to IRF-PAI items, as published in IRF-PAI Data Spec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gration To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5720" y="1600200"/>
            <a:ext cx="749124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s Facility data for Inpatient Rehabilitation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grate Patients from IRVEN into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selects the .mdb from 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tient Match is utilized during migration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tive database and\or the archive database may be migrat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s Last Assessmen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2d2db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Downloa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215720" y="1599840"/>
            <a:ext cx="76518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RVEN can be download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ttps://www.qtso.com/IRVENdownload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CM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https://www.cms.gov/Medicare/Medicare-Fee-for-Service-Payment/InpatientRehabFacPPS/Software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f the reference documents can also be located at the above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71360" y="1442880"/>
            <a:ext cx="7538760" cy="41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QTSO help des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800-339-9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help@qts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4200" y="377640"/>
            <a:ext cx="8244000" cy="63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5720" y="1599840"/>
            <a:ext cx="75582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l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security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urity Ques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31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ssword Expiration every 60 day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notifications when latest version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utilized (internet connection 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RVEN vs jIRV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6080" y="1600200"/>
            <a:ext cx="70228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questions now appear in a tre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instead of tab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unning form on one page vs. a section per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s are applied as questions are ans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6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 \ Error box is on the same screen as the data entry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16080" y="1599840"/>
            <a:ext cx="7664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atient Rehabilitation and Patient Assessment Collection User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y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for creation of multiple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4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Patient Match to prevent duplicate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rts by specific column if heading is sele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search for Patients by using specific search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16080" y="1599840"/>
            <a:ext cx="670248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8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nctionality can be turned on and of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yboard alterna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4046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,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creen reader software (i.e. JA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ows utilization of speech recognition software (i.e. Dragon Naturally Speakin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4200" y="378000"/>
            <a:ext cx="82440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6080" y="1599840"/>
            <a:ext cx="7407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r is prompted to back up database when exiting jIRV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back up should be directed to an external dr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estore of database (i.e. PC cras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6680" indent="-43344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backup of database during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6080" y="1600200"/>
            <a:ext cx="67118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ailable for each item of the form by selecting the Help Icon, Help Menu, or F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IRVEN User Guide is included with the installation of jIRVE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438120">
              <a:spcBef>
                <a:spcPts val="1800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6080" y="1600200"/>
            <a:ext cx="74707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tem Administrat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or Delete Facility, Users, and Patients ac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, Edit, Modify, Inactivate, or Delete assessm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or Export  Patient and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374400"/>
            <a:ext cx="82440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IRVEN User Functiona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15720" y="1599840"/>
            <a:ext cx="736596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381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ccoun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a Ent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or Edit Patient data for all assessm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assessments created by other user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Data Ent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User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62160" indent="-347760"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381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12-04-28T10:13:26Z</cp:lastPrinted>
  <dcterms:modified xsi:type="dcterms:W3CDTF">2012-05-11T11:55:50Z</dcterms:modified>
  <cp:revision>765</cp:revision>
  <dc:subject>MDS Classroom Training</dc:subject>
  <dc:title>Section L: Oral/Dental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B580D97-3256-43EF-8DEF-5DCD0C1E0C85</vt:lpwstr>
  </property>
  <property fmtid="{D5CDD505-2E9C-101B-9397-08002B2CF9AE}" pid="3" name="ArticulatePath">
    <vt:lpwstr>MDS_PP_SecL_092410_LS</vt:lpwstr>
  </property>
  <property fmtid="{D5CDD505-2E9C-101B-9397-08002B2CF9AE}" pid="4" name="ArticulateProjectFull">
    <vt:lpwstr>G:\MDS\development\MDS_SectionL\MDS_PP_SecL_092410_LS.ppta</vt:lpwstr>
  </property>
  <property fmtid="{D5CDD505-2E9C-101B-9397-08002B2CF9AE}" pid="5" name="ArticulateUseProject">
    <vt:lpwstr>1</vt:lpwstr>
  </property>
  <property fmtid="{D5CDD505-2E9C-101B-9397-08002B2CF9AE}" pid="6" name="_AdHocReviewCycleID">
    <vt:r8>-1408970448</vt:r8>
  </property>
  <property fmtid="{D5CDD505-2E9C-101B-9397-08002B2CF9AE}" pid="7" name="_AuthorEmail">
    <vt:lpwstr>Caroline.Gallaher@cms.hhs.gov</vt:lpwstr>
  </property>
  <property fmtid="{D5CDD505-2E9C-101B-9397-08002B2CF9AE}" pid="8" name="_AuthorEmailDisplayName">
    <vt:lpwstr>Gallaher, Caroline D. (CMS/OCSQ)</vt:lpwstr>
  </property>
  <property fmtid="{D5CDD505-2E9C-101B-9397-08002B2CF9AE}" pid="9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10" name="_NewReviewCycle">
    <vt:lpwstr/>
  </property>
</Properties>
</file>