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9780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84400" y="698040"/>
            <a:ext cx="4651200" cy="348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97800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9398-4A99-4AEA-A2A0-7223C487B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978360" y="88408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219C-B9CA-4CD8-827B-CBB6EEC7FC3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A175-7860-45DF-8E9B-CC8ECD17A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969A-0DDD-44BB-BB73-2C38321C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4E9B-7267-47B7-8D82-408AA120F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1FC6-41AE-48C3-BEEE-8B8F3FCD8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C78E-D253-430D-8C89-A8DB0D008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9DF6-670D-4C69-8CA1-B9A38E69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23FB-DEA0-456C-975F-6F70D74B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949E-8444-4FA0-831C-5D08D23F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15CE-331A-4581-92CB-76153052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C3AC3-E363-4F06-984B-12A7D423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1549-1A0B-4816-80EC-88E8586C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96B0-4DEC-4CBF-B32C-440E548B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22DD-6828-4AA5-8A17-BF0CFC26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362E-2462-45F2-ACEE-AAA41DD6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8821-9B6E-41C8-A6BF-59A6D9CF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C03F-AEDC-4A23-B01F-CF4A137B1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725C-6D5E-4AE5-AF5F-9B3DAB6D8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4BF3-195A-41D8-A85D-9D13BA82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4A11-EE58-4F82-B98D-4C033DAF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4168-3229-40F6-B493-C59FB986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82CD-8E7C-4C7C-914F-6510A0CC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253C-F15A-4496-A1B4-109BAE2F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4422-FEA8-44F5-9536-214BFF58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4235-16B0-4205-934E-FF365CD1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5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222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122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Line 123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Line 124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Line 125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Line 126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Line 127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Line 128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Line 129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Line 130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Line 131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Line 132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Line 133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Line 134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Line 135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Line 136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Line 137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Line 138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Line 139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Line 140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Line 141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Line 142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Line 143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Line 144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Line 145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Line 146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Line 147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Line 148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Line 149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Line 150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Line 151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Line 152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Line 153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Line 154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Line 155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Line 156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Line 157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Line 158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Line 159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Line 160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Line 161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Line 162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Line 163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Line 164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Line 165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Line 166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Line 167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Line 168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Line 169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Line 170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Line 171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Line 172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Line 173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Line 174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Line 175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Line 176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Line 177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Line 178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Line 179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Line 180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Line 181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Line 182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Line 183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Line 184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Line 185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Line 186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Line 187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Line 188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Line 189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Line 190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Line 191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Line 192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Line 193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Line 194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Line 195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Line 196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Line 197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Line 198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Line 199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Line 200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Line 201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Line 202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Line 203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Line 204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Line 205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Line 206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Line 207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Line 208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Line 209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Line 210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Line 211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Line 212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Line 213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Line 214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Line 215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Line 216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Line 217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Line 218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Line 219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224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16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Rectangle 112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Rectangle 117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Rectangle 113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D9A9-818C-4419-AC3D-D9E712388234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325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217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Group 324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224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Line 225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Line 226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Line 227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Line 228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Line 229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Line 230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Line 231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Line 232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Line 233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Line 234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Line 235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Line 236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Line 237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Line 238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Line 239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Line 240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Line 241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Line 242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Line 243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Line 244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Line 245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Line 246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Line 247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Line 248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Line 249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Line 250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Line 251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Line 252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Line 253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Line 254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Line 255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Line 256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Line 257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Line 258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Line 259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Line 260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Line 261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Line 262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Line 263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Line 264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Line 265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Line 266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Line 267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Line 268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Line 269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Line 270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Line 271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Line 272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Line 273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Line 274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Line 275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Line 276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Line 277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Line 278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Line 279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Line 280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Line 281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Line 282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Line 283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Line 284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Line 285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Line 286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Line 287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Line 288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Line 289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Line 290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Line 291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Line 292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Line 293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Line 294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Line 295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Line 296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Line 297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Line 298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Line 299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Line 300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Line 301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Line 302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Line 303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Line 304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Line 305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Line 306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Line 307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Line 308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Line 309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Line 310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Line 311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Line 312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Line 313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Line 314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Line 315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Line 316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Line 317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Line 318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Line 319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Line 320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Line 321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220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Rectangle 219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59BA-9615-4333-B49B-3107140F0234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rainyquote.com/quotes/quotes/h/henryford106096.html" TargetMode="External"/><Relationship Id="rId2" Type="http://schemas.openxmlformats.org/officeDocument/2006/relationships/hyperlink" Target="http://www.brainyquote.com/quotes/quotes/s/stevejobs126246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37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elcom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2590920" y="4952880"/>
            <a:ext cx="6400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Jack Williams, Directo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ivision of National System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304920" y="380880"/>
            <a:ext cx="1600200" cy="1600200"/>
          </a:xfrm>
          <a:prstGeom prst="rect">
            <a:avLst/>
          </a:prstGeom>
          <a:solidFill>
            <a:srgbClr val="9f9d4f"/>
          </a:solidFill>
          <a:ln w="0">
            <a:noFill/>
          </a:ln>
          <a:effectLst>
            <a:outerShdw dist="222200" dir="8939309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CA 3004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Tea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Enjo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Nursing Home MDS – June 1998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ome Health OASIS – August 1999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npatient Rehab Facility PAI – January 200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wing Bed MDS – July 200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ong Term Care Hospital CDS – October 201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ssessment Hist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958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otal Assessments (through 04/25/12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DS 2.0/3.0 and SwBed – ~220,0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ASIS –  ~163,5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RF-PAI – ~4,7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verage Monthly Assessments Add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DS 2.0/3.0 and SwBed – ~1,6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ASIS – ~1,100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RF-PAI – ~38,0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CA 3004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ali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easur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ublic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ssessment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ealthcare Acquired Infections Repor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duc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eam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Office of Clinical Standards and Qualit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 for Medicar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 for Medicaid and CHIP Servic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enters for Disease Control and Prevention – CD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You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njoy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Harbor Plac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aryland Science Center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Baltimore Aquariu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Baltimore Maritime Museu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Good Eats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www.baltimore.or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lvl="2" marL="10638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spir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ality means doing it right when no one is looking. </a:t>
            </a:r>
            <a:br>
              <a:rPr sz="3200"/>
            </a:br>
            <a:r>
              <a:rPr b="0" lang="en-US" sz="3200" spc="-1" strike="noStrike" u="sng">
                <a:solidFill>
                  <a:srgbClr val="990000"/>
                </a:solidFill>
                <a:uFillTx/>
                <a:latin typeface="Times New Roman"/>
                <a:hlinkClick r:id="rId1"/>
              </a:rPr>
              <a:t>Henry For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e a yardstick of quality. Some people aren't used to an environment where excellence is expected. </a:t>
            </a:r>
            <a:br>
              <a:rPr sz="3200"/>
            </a:br>
            <a:r>
              <a:rPr b="0" lang="en-US" sz="3200" spc="-1" strike="noStrike" u="sng">
                <a:solidFill>
                  <a:srgbClr val="990000"/>
                </a:solidFill>
                <a:uFillTx/>
                <a:latin typeface="Times New Roman"/>
                <a:hlinkClick r:id="rId2"/>
              </a:rPr>
              <a:t>Steve Job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15:18:08Z</dcterms:created>
  <dc:creator>IFMC Employee</dc:creator>
  <dc:description/>
  <dc:language>en-US</dc:language>
  <cp:lastModifiedBy>Jennifer Parrish</cp:lastModifiedBy>
  <dcterms:modified xsi:type="dcterms:W3CDTF">2012-05-11T11:47:03Z</dcterms:modified>
  <cp:revision>65</cp:revision>
  <dc:subject/>
  <dc:title>QIES Year in Review -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55215944</vt:r8>
  </property>
  <property fmtid="{D5CDD505-2E9C-101B-9397-08002B2CF9AE}" pid="3" name="_AuthorEmail">
    <vt:lpwstr>Caroline.Gallaher@cms.hhs.gov</vt:lpwstr>
  </property>
  <property fmtid="{D5CDD505-2E9C-101B-9397-08002B2CF9AE}" pid="4" name="_AuthorEmailDisplayName">
    <vt:lpwstr>Gallaher, Caroline D. (CMS/OCSQ)</vt:lpwstr>
  </property>
  <property fmtid="{D5CDD505-2E9C-101B-9397-08002B2CF9AE}" pid="5" name="_EmailSubject">
    <vt:lpwstr>Here are the Powerpoint slides and presentation handouts that I mentioned to you yesterday that ii will also need to have posted on the IRF QRP webpage</vt:lpwstr>
  </property>
  <property fmtid="{D5CDD505-2E9C-101B-9397-08002B2CF9AE}" pid="6" name="_NewReviewCycle">
    <vt:lpwstr/>
  </property>
</Properties>
</file>