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D01-7960-4A0C-9C19-9F4276D0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B53-3327-4C05-ACAA-BE82BAED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4A3-28D3-42CF-84A1-AA37BB6A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E83-66F3-4EB2-B794-88EC80B6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9C7B-0DA3-4006-9140-E6DDD84A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DBC6-1255-4673-A5A6-99296CCE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7357-C2A7-4E95-AD36-AF8BD608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272B-13E7-4727-965B-02C4596D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9E71-8959-479D-BE5C-52721417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BBB0-A6C3-4C0E-9FFA-5978CC5E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AAE2-226A-42B2-8281-54FEF753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16F6-4728-41AB-B898-39E7A011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C3BE-DEC8-4E60-B2B3-1D2B5057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641E-F6EF-4B9B-8E70-5E56279F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C547-5B85-4A7D-BE36-CD8AEF79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8B51-4D55-4B6F-B7EE-A5FB2179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9D99-6AD4-4F91-A7C5-69B36009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693-F8B6-42B1-B5AE-7253415E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E4FD-9E01-4D0B-8A76-688ED9E7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70B-7EBF-43BF-BE5A-5F2F07CE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E97D-46B9-4D30-87CB-CBBAD0A2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6AD-7C6A-4419-97C9-1E2691D7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2CF-1431-416F-A6E5-2F256740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FAC-2E6C-4B65-8C88-9B020ECB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D4B3-AC96-400B-A0CB-2FF4BA85EE0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D016-3D7A-4266-BA25-3CAEC67A46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ms.hhs.gov/regulations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NF PPS REFINEMENTS-   53 RUG-III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CMS, November 21,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,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4BF-CB74-4577-B2C9-59FF1B973F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25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D68-E21F-44F5-BAF8-C0B01F0218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d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: (section P1b [a, b, c]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5 days any combination of the 3 discip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886-B197-4AEB-9D1C-8B80A64E3B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b,c] and P3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5 minutes of therapy per week minimum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3 days any combination of the 3 disciplin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or more nursing rehabilitation services received at least 15 minutes each for 6 days/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DA6-21C1-4A08-B25F-C9F381C3DE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e there any changes to the MD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re have been no changes to the instructions for completing the MD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ou will continue to complete as usu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73A-58C9-4F23-A5A3-63AFDEAB88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D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changes to MDS item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ction 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projection of therap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tin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for high, medium, and low intensiti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MRA requirement must be fulfilled when all therapy services are no longer prov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sident was previously assigned into a Rehabilitation Plus Extensive Services or Rehabilitation categ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skilled services continue to be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F03-68D0-4109-8E12-F00F1CE673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dministrative Presumption of Coverag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alifying hospital sta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et the level of care requirements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</a:rPr>
              <a:t>4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CFR 409.3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 to and including the assessment reference date for the 5-day assess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ed to one of the RUGs as representing the required level of ca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842-3A5D-4206-A650-B6BCDD24BA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oups “Administrative Presumption” Appl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pplies to the top 35 groups when correctly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eneficiary who classifies to any of the lower 18 RUG groups is not automatically classified as meeting the SNF level of care defin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8B3-3127-48B2-A979-AA178D6F60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p 35 RUG group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habilitation plus Extensive Servic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ltra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y 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dium Rehabilitation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w Rehabilitation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tensive Serv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ecial Care; and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nically Comple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B05-ECAF-4EC9-B5C6-4EBBB861BA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ftware Updat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w version of RAVEN, 5.20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gin using new software for ARDs of 11/22/05 and l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receive 2 RUGs categories on Final Validation Report from 11/22/05 – 1/13/06 =&gt; one will be 44-RUG category, one will be 53-RU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276-9833-4AFB-9A78-46EF12DB8D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RUG Refinement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tion 101 of The Medicare, Medicaid, SCHIP Balanced Budget Refinement Act of 1999 (BBR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orary add-ons for specified RUG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il 10/1/00 or the implementation of case-mix refinements to the SNF P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D91F-2EBE-4789-92AA-66F93A489A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 from October 1 to December 31, 2005 payment based on the 44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dates of services January 1, 2006 and on payment based on the 53-group RUG classification sys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687-BD7E-4BDB-8B67-C866A262B4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yment Implications (con’t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dex maximizing classification  continu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a beneficiary classifies into more than one RUG category, the group with the highest case mix index (CMI) will be assign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610-7D2D-4D39-80E7-E93CA0BB25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ex Maximizing Classification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son meets criteria for assignment in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L (CMI = 4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VB (CMI = 43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2 (CMI = 31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VL has highest CMI (46).  Therefore, the person will be assigned into RV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59D-7552-4C35-868C-D1C29471B0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-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mporary add-ons of 20% and 6.7%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main in effect 10/1 – 12/31/0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longer apply 1/1/0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IDS temporary add-on of 128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plies to both RUG classification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653-6E7F-4D89-8450-E5A044E0BD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ims Implic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HIPPS codes are for the nine new categories only, which correspond to nine new RUG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changes to assessment indica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ims with one of the new nine RUG categories with dates of service prior to 1/1/06 will be rejec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039-4A32-4359-9A8C-08056DA33E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3 RUG-III Case-Mix Classification System (44 RUGs plus 9 new 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ion of the M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umption” of Covera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upd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9904-DAAD-449A-8AFD-4029A2D8B3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Rehabilitation Plus Extensive Services:  RUX, RUL, RVX, RVL, RHX, RHL, RMX, RML, RL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habilita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C, RUB, RUA, RVC, RVB, RVA, RHC, RHB, RHA, RMC, RMB, RMA, RLB, 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ervic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3, SE2, SE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 Care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SC, SSB, S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37D-D622-4E3A-BA78-8B4EDFCFC2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3 RUG Case-Mix Classification System (con’t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ly Complex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C2, CC1, CB2, CB1, CA2, C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ired Cogni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B2, IB1, IA2, I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havior Problems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B2, BB1, BA2, B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Physical Function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2, PE1, PD2, PD1, PC2, PC1, PB2, PB1, PA2, PA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A80-F43C-4399-A741-20856BA7CA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 Requirements Necessary to Classify into Rehabilitation Plus Extensive Services Catego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L SC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ERVICES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HABILIT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9FB-7C33-491E-B905-A343C8134D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L Sco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L score must be 7 or high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requirement is consistent with the  existing requirement for classification into Extens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502-D643-4DEF-894C-D177DA8FD0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ensive Services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sident must be coded for receiv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more of the following extensive servi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5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enteral / I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V Med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ctio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heostomy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1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ilator or respir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90F-EF50-4D7C-8AEE-9579F85984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habilitation Criteri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ltra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last 7 days (section P1b [a, b, c]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20 minutes of therapy per week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1 discipline 5 days/week,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nd discipline 3 days/wee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15ED-6516-43D2-AFA4-D203A330F8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7:28:31Z</dcterms:created>
  <dc:creator>CMS</dc:creator>
  <dc:description/>
  <dc:language>en-US</dc:language>
  <cp:lastModifiedBy>CMS</cp:lastModifiedBy>
  <dcterms:modified xsi:type="dcterms:W3CDTF">2005-11-16T14:06:51Z</dcterms:modified>
  <cp:revision>16</cp:revision>
  <dc:subject/>
  <dc:title>SNF PPS REFINE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39374035</vt:r8>
  </property>
  <property fmtid="{D5CDD505-2E9C-101B-9397-08002B2CF9AE}" pid="3" name="_AuthorEmail">
    <vt:lpwstr>Ellen.Gay@cms.hhs.gov</vt:lpwstr>
  </property>
  <property fmtid="{D5CDD505-2E9C-101B-9397-08002B2CF9AE}" pid="4" name="_AuthorEmailDisplayName">
    <vt:lpwstr>Gay, Ellen M.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