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B434-EDB2-4BF1-B2C4-6A47EB1D4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design considerations” to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Deleted the word “submission” from second bullet:  originally read “self-serve submission feedback reports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mproving the data submission process” to future data subm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validating data in a VBP program” to future valid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bulle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812-F791-45F5-A7FD-698068AF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2CC-4EE4-4F1B-BB08-37996294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A7A-0CA9-47C5-AB97-0F10994F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C91-37EC-4A0C-A4B1-27E3CE5F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F62D-D923-454E-9236-7986D65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20C-0519-421E-9B77-5A20B81C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61A-CC3B-4A52-B64F-317F0681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FCA-1AFB-4183-A5A3-AD8203C6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B10-97C9-4016-8672-52EC583B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B661-4ACC-4A75-A1F7-DE2FAF10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BB3-0094-455E-AD36-84684ED9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EE2-C9AC-4731-9D8B-956DDE8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176-4CEE-4585-A640-75FCE4DBB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Infrastructure &amp; Valid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7720" y="3048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William M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876920"/>
            <a:ext cx="464832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are the advantages and disadvantages of various data sources, including claims, registries, and EH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can CMS best build on current data processes and policies to meet PVBP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might various data sources reduce the burden of repo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structure data validation for PVB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w should CMS provide feedback reports to professionals and their grou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257-AF69-420C-8E3B-5763518EB2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FC6-E447-4309-BD3D-5075E59A9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CA1-9438-4210-A625-CE63174C10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nimize the burden of data 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for efficient data validation and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 timely feedback for performance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use of 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A0B5-41E7-44E5-BA97-E9BC81F80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quality and the data infrastructure are essential building blocks for any successful VB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used to score performance must be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and infrastructure depend on the types of data used for calculating the performance metr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F173-E7C5-4A44-A3F2-83FA751C4B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isting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difi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pplemental Clin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Regi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- 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54C-8F51-4716-A017-26228A7FCF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urrent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Q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pital V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1B6-23C8-4C06-941F-74B96728B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ociation of individual professionals to group practices or system leve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 of a patient to a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pay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ing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 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13E-D0C5-4B8B-AB37-01DC2C62E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7120" y="1600200"/>
            <a:ext cx="805968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valid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universal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rter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targeted at all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nnual audit of a random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t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Validation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oice depends on 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A88-4068-4339-BFB3-6EBFE422E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eedback to Profession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id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F4B-92A7-4E73-B7DF-4DD305D9FF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48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51621045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-858718010</vt:r8>
  </property>
</Properties>
</file>