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33C-F4EE-4CF0-BC40-00001E00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212-D2C5-4897-A085-4A4D69F5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071-442A-40AD-BB17-0AFFC73A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6BE-C4D4-4F39-B1DC-2C9B257E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E12-898B-405D-9664-C21A5108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C36-65AF-4D61-9F29-FDC6F79A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B49-9414-433D-9AE6-0AD27479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EC9-34C7-477C-941C-34914697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19E-7DF0-4552-AF8D-ED174256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C6F-B4B1-4DBD-8869-F6D33EB1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F80-B873-43CA-ADF9-2A8263EC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1FD2-4148-4DDD-820A-7D9418E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7E59-E2DE-46A3-A9D2-903C7EB6BB4C}" type="slidenum">
              <a:rPr b="0" lang="en-US" sz="1400" spc="-1" strike="noStrike">
                <a:solidFill>
                  <a:srgbClr val="000514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04920"/>
            <a:ext cx="7772400" cy="28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veloping a Plan to Transition to    Value-Based Purchasing for Physician     &amp; Other Professional Services (PVB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fining the Opportunit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3282840"/>
            <a:ext cx="555624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Jeffrey Rich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enter for Medicar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3680" y="5103720"/>
            <a:ext cx="32317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Listening S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05920" y="6172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EFB-6540-49E0-AA69-6AC4E34C25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9907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 Support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are Management for High-Cost Beneficiaries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Healthcare Quality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Gainsharing Demon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ute Care Episode (ACE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Better Quality Information for Medicare Beneficiaries (BQI) Pilo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lectronic Health Records (EHR)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l Hom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6E5-002F-4481-9D67-602B2CF77C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Initia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62120"/>
            <a:ext cx="8153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Quality Initiative: Inpatient &amp; Outpatient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spital-Acquired Conditions &amp; Present on Admission Indicat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Quality Reporting Initia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Resource Use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&amp; Other Professional Services VBP Plan &amp; Report to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Care Pay for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SRD Pay for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id V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5091-9622-4222-959F-6C61155A3B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lan Goa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Medicare beneficiary health outcomes and experience of care by using payment incentives and transparency to encourage higher quality, more efficient professional serv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4C9-D3BB-48A5-A363-A549BB83F1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VBP Program Objectiv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the practice of evidence-based medic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Reduce fragmentation and du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effective management of chronic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ccelerate the adoption of effective interoperabl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timulate investments in effective structural components o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isseminate transparent and useful inform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mpower consumers to make value-based health care choi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-23148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To encourage health professionals to improve the value of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718-7687-4630-81E4-5EC645B513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3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oluntary consortium of 13 cardiac surgical practices and 17 hospitals providing open-heart surgery in the Commonwealth of Virgi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vened since 1996 to improve the quality of surgical care and contain costs by comparing data and exchanging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 type of “accountable care organization” collaborating regionally to implement consensus-based QI projects and create payment mechanisms as a catalyst for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E3B-88E3-451B-8592-ECB1BC3398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Personal Experiences with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Tahoma"/>
              </a:rPr>
              <a:t>Virginia Cardiac Surgery Quality Initiative (VCSQI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elped design a proposed global pricing demonstration with CMS in 200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ndled pay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metr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hared sav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ed and implemented P4P programs with Anthem Blue Cross and Blue Shield of Virgini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-In-Sights: Hospital Incentive Program (Q-HI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ality Physician Performance Program (Q-P3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ign hospital and physician goals to foster collaborati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2008 Eisenberg Patient Safety-Quality Award from NQF-The Joint Commi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903-F145-4EC7-8C0C-F837E67125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onclu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Developing this PVBP Plan provides an important opportunity to explore a wide range of options appropriate to the diversity of practice arrangements and settings of c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Focusing on both longer term and short-term timeframes will enable immediate changes to be designed with longer-term objectives in min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5000"/>
              </a:lnSpc>
              <a:spcBef>
                <a:spcPts val="3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D58-B767-4342-A8F1-1BA2AD2433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Overview of the Present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text for PVBP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S goal and objectives for the PVBP Pl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ighlights of my own experience to illustrate the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10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mportance of this eff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03B-6876-48E2-B62D-770F95727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ision: The right care for every person every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ake ca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ec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tient-cent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im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qui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9A9-F07D-4078-8EF0-333253B13C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CMS’ Quality Improvement 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Roadma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Work through partnershi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asure quality and report comparative resul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Value-Based Purchasing (VBP): improve quality and avoid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ncourage adoption of effective health information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omote innovation and the evidence base for effective use of technolog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FC5C-819B-4A3C-8650-F794AFDC64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at Does VBP Mean to CMS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ransforming Medicare from a passive payer to an active purchaser of higher quality, more efficient health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Tools and initiatives for promoting better quality, while avoiding unnecessary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Tools: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measurement, payment incentives, public reporting, conditions of participation, coverage policy, QIO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Initiatives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:  pay for reporting, pay for performance, gainsharing, competit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dding, bundled payment, coverage decisions, direct provider sup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8DA7-DFFE-49D2-B024-D6EAFBAFB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Improve Q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Quality improvement opport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ennberg’s Dartmouth Atlas on variation in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cGlynn’s NEJM findings on lack of evidence-based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9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OM’s Crossing the Quality Chasm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Avoid Unnecessary C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edicare’s various fee-for-service fee schedules and prospective payment systems based on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resource consumptio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nt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f care, NOT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or </a:t>
            </a:r>
            <a:r>
              <a:rPr b="1" i="1" lang="en-US" sz="2400" spc="-1" strike="noStrike">
                <a:solidFill>
                  <a:srgbClr val="003399"/>
                </a:solidFill>
                <a:latin typeface="Tahoma"/>
              </a:rPr>
              <a:t>unnecessary costs avoid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ayment systems’ incentives are not align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69F-F055-4BDF-AE7A-B042A4224C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Why VBP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Medicare Solvency and Beneficiary Imp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Expenditures up from $219 billion in 2000 to a projected $486 billion in 200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A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cess of expenditures over tax income in 2007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jected to be depleted by 201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art B Trust F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penditures increasing 11% per year over the last 6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premiums, deductibles, and cost-sharing projected to consume 28% of the average beneficiary’s Social Security check in 201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59A-02E6-4882-B4FF-1027668B5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Support for VB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sident’s Budg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FYs 2006-0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ongressional Interest in P4P and Other VBP To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IPA, MMA, DRA, TRHCA, MMSEA, MIP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PAC Reports to Congr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on quality, efficiency, health information technology, and payment refor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OM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4P recommendations in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To Err Is Huma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Crossing the Quality Chas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port, </a:t>
            </a:r>
            <a:r>
              <a:rPr b="0" i="1" lang="en-US" sz="2400" spc="-1" strike="noStrike">
                <a:solidFill>
                  <a:srgbClr val="003399"/>
                </a:solidFill>
                <a:latin typeface="Tahoma"/>
              </a:rPr>
              <a:t>Rewarding Provider Performance: Aligning Incentives in Medi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ivate Se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vate health pl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mployer coal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FBB-9387-41FC-B11D-ACC5B9DDB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VBP Demonstrations and Pilo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remier Hospital Quality Incentiv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Physician Group Practi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Medicare Care Management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Nursing Home Value-Based Purchasing Demonstr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spcAft>
                <a:spcPts val="349"/>
              </a:spcAft>
              <a:buClr>
                <a:srgbClr val="ffcc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Home Health Pay for Performance Demon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BE1-14B9-4A95-89C1-19A92B4D8E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51:44Z</dcterms:modified>
  <cp:revision>47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8274953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 - one replacement</vt:lpwstr>
  </property>
  <property fmtid="{D5CDD505-2E9C-101B-9397-08002B2CF9AE}" pid="6" name="_NewReviewCycle">
    <vt:lpwstr/>
  </property>
  <property fmtid="{D5CDD505-2E9C-101B-9397-08002B2CF9AE}" pid="7" name="_PreviousAdHocReviewCycleID">
    <vt:r8>1541296745</vt:r8>
  </property>
</Properties>
</file>