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3640" y="688680"/>
            <a:ext cx="459072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B226-6FFA-46B2-B200-B11157C26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33640" y="689040"/>
            <a:ext cx="4590720" cy="34434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d title from “incentive structure” to future basis for incentive pay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33640" y="689040"/>
            <a:ext cx="4590720" cy="34434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dded this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33640" y="689040"/>
            <a:ext cx="4590720" cy="34434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hanged title from “incentive structure” to VBP design consid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33640" y="689040"/>
            <a:ext cx="4590720" cy="34434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d title from “incentive structure” to future basis for incentive pay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d bullet #1 from “what should be the basis for receiving an incentive” to options for the basis of incentive payments – instead of what the bullet was changed to we may want to ask a different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D9228-5476-44E8-8963-6B4E77D973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A06E1-A5EA-4EE9-BD7F-8E165C0443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A4CEC-6294-450E-8C0B-654CC14C0C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82256-CE12-41A6-B919-ABD37CC5CD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BDC36-8671-40E4-A5CA-38162CB5ED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5EB85-EB8D-4345-97EF-AF8873CCC7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5A180-10A5-4FB4-805A-CA29E2995C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80F59-D89F-48A4-8678-2CABFE0784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514E5-4717-4645-9E9F-0A334469F8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6B838-E2FF-4E26-BD3C-01FFD54C35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6F222-79B9-4A83-8537-D3E4156CD6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7BA89-DE3E-4ED5-9F29-B66B619E8D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819520" y="624852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777777"/>
                </a:solidFill>
                <a:latin typeface="Arial"/>
              </a:rPr>
              <a:t>Procurement Sens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FF7A-7D95-4A1A-9437-536C306F3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20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251424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errence Ka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enter for Medicare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2057400"/>
            <a:ext cx="6705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1523880"/>
            <a:ext cx="601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ahoma"/>
              </a:rPr>
              <a:t>   </a:t>
            </a:r>
            <a:r>
              <a:rPr b="0" lang="en-US" sz="4400" spc="-1" strike="noStrike">
                <a:solidFill>
                  <a:srgbClr val="003399"/>
                </a:solidFill>
                <a:latin typeface="Tahoma"/>
              </a:rPr>
              <a:t>Incentive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4648320"/>
            <a:ext cx="5257800" cy="8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Listening S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ecember 9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Basis for Incentive Payments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ll Medicare Physician Fee Schedule servic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asured servic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npatient or outpatient servic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ther factor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9DF50-8BBD-43C5-B293-1083F7A462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Factors Influencing Basis of Incentive  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7391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mpact on increasing value to Medicare and its benefici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perational consid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quity and other iss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86800" indent="-22572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Lower volume professionals/clinics may have less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6800" indent="-22572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Higher volume professionals/clinics may have more opportunities to receive incentive pay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6800" indent="-22572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Non-compliant pati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6800" indent="-22572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nappropriate incentives to increase volu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1D04C-599F-4875-AD48-AE38C9541E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Summary of Questions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7617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hat funding sources and payment models would be feasible and desirab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How large does the payment incentive need to b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hat type of incentive bonus payment is most effectiv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hat distribution of incentive payments best achieves the PVBP Plan goal and objectives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hat should be the basis for receiving an incentive? Are there strategies that place particular types of professionals, such as rural professionals, at an advantage or disadvantage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hould the PVBP Plan base incentive payments on payments for all Medicare Physician Fee Schedule services, payments for measured services only, or other factor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3240" indent="0">
              <a:lnSpc>
                <a:spcPct val="8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71B7D-82F6-4000-A32B-44C5FEB6F0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99"/>
                </a:solidFill>
                <a:latin typeface="Tahoma"/>
              </a:rPr>
              <a:t>Thank You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3911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Opportunity for Public Com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9FD6F-9679-4CCA-B7C7-C43BDB0810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view of Presentation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sign principles and consid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Funding sources and payment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ype of incentive pay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istribution of incentive pay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ncentive payment thresho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asis for incentive pay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FD346-CC60-4F66-9B4F-28256E680D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sign Principles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lign incentives across providers and setting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Reward both attainment and improvement to engage professionals at al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ovide large enough incentives to encourage voluntary participation and dr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ake timely payments to maximize the effectiveness of the incen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E292F-453E-4DA0-B273-4801F66DAE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sign Considerations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mpact on Medicare program and beneficiary c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udget im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perational feasibilit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istributional con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17C63-8A61-4E16-9BA6-939C5AFE61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Funding Sources &amp; Payment Models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ithin Physician Fee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eyond Physician Fee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1EC6C-3C7B-4773-87DF-093A3E2966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Type of Incentive Payment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dd-on to base pay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imilar to hospital pay-for-reporting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eriodic incentive pay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imilar to PQRI program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onus p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art of payment is withheld and placed in incentive payment po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5B051-5D02-4914-8A0D-711B5B9CDB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istribution of Incentive Payments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391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hat distribution of incentives is best 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chieve the goals of physician VBP Pla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ovide consistency with the level of accountability that can be measur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E5FCA-EF8B-40EF-BBAD-4AA1F8625D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istribution of Incentive Payments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Larger incentives to smaller number of high performing professio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lternatively, smaller incentives to larger number of professio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Financial risk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488A7-2AB7-4E42-B475-B7D8255627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Incentive Payment Thresholds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ptions for incentive payment thresho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bsolute performance threshol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Relative thresholds or percentile rank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inimum performance thresho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mprovement in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 combination of approa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dvantages/disadvantages by type of profess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FB8A2-59C0-481C-884E-4EB4AA1EF2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15:08:35Z</dcterms:created>
  <dc:creator>CMS</dc:creator>
  <dc:description/>
  <dc:language>en-US</dc:language>
  <cp:lastModifiedBy>CMS</cp:lastModifiedBy>
  <dcterms:modified xsi:type="dcterms:W3CDTF">2008-12-08T15:40:06Z</dcterms:modified>
  <cp:revision>9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94436370</vt:r8>
  </property>
  <property fmtid="{D5CDD505-2E9C-101B-9397-08002B2CF9AE}" pid="3" name="_AuthorEmail">
    <vt:lpwstr>Julianne.Howell@cms.hhs.gov</vt:lpwstr>
  </property>
  <property fmtid="{D5CDD505-2E9C-101B-9397-08002B2CF9AE}" pid="4" name="_AuthorEmailDisplayName">
    <vt:lpwstr>Howell, Julianne R. (CMS/CTR)</vt:lpwstr>
  </property>
  <property fmtid="{D5CDD505-2E9C-101B-9397-08002B2CF9AE}" pid="5" name="_EmailSubject">
    <vt:lpwstr>PVBP Slides renamed</vt:lpwstr>
  </property>
  <property fmtid="{D5CDD505-2E9C-101B-9397-08002B2CF9AE}" pid="6" name="_NewReviewCycle">
    <vt:lpwstr/>
  </property>
  <property fmtid="{D5CDD505-2E9C-101B-9397-08002B2CF9AE}" pid="7" name="_PreviousAdHocReviewCycleID">
    <vt:r8>1181294680</vt:r8>
  </property>
</Properties>
</file>