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2B9F-E785-48CE-97E7-B7796154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DD24-96BC-427E-AB7C-BED0FAA1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3231-4D98-471D-A742-21E5D9EC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8F4ED-DD62-43DD-9F9D-562F293C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63E9-4BEE-40A2-B6BE-6729F3B8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558F-E80D-42E5-9607-7F7F4FF1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7656-E225-496E-BF91-524736ED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A8BD-0FA1-4171-B19D-7A205660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B7C0-591B-413E-B91D-6E9C78BB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29C8-5D36-4FC8-B3B0-3789D618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991E-53A4-44A8-A672-401690C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8188E-0902-4395-83AE-0EE93514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387C-CF58-46DF-9C57-A3425E4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AA4B-F9DD-4F3F-998E-C98AB59C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1CBE-75D0-4A05-959E-04584AC8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119F-5062-45E5-91F9-E312A1D1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6562-50DE-4081-87EA-34417B25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313C-C99A-4936-BD00-6B807912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4363-28B0-4F4A-A725-94CD120A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A7BBA-A07B-4FE2-96AE-600BF3EB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9A21-918D-4FE3-9272-B5556F60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A737-E0ED-4EA1-AAEE-BEE79EC1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01CA-D90E-40E0-9BE1-AA0D182F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2ED1-A809-4D58-B2F7-729F8F0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C40F-43A9-4E22-B099-A62EF8B7E9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3914-AAAD-4E4F-8DBD-8D950D1CC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80880"/>
            <a:ext cx="77724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ahoma"/>
              </a:rPr>
              <a:t>Developing a Plan                     to Transition to Medicare                   Value-Based Purchasing for Physician &amp; Other Professional Services (PVB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5080" y="4216320"/>
            <a:ext cx="680868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Listening Session on Issues Pap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December 9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93D0-5646-48F8-98EF-579D9B6C60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5:39:28Z</dcterms:created>
  <dc:creator>Tinabeth Burton</dc:creator>
  <dc:description/>
  <dc:language>en-US</dc:language>
  <cp:lastModifiedBy>CMS</cp:lastModifiedBy>
  <dcterms:modified xsi:type="dcterms:W3CDTF">2008-12-08T15:35:07Z</dcterms:modified>
  <cp:revision>4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97213038</vt:r8>
  </property>
  <property fmtid="{D5CDD505-2E9C-101B-9397-08002B2CF9AE}" pid="3" name="_AuthorEmail">
    <vt:lpwstr>Julianne.Howell@cms.hhs.gov</vt:lpwstr>
  </property>
  <property fmtid="{D5CDD505-2E9C-101B-9397-08002B2CF9AE}" pid="4" name="_AuthorEmailDisplayName">
    <vt:lpwstr>Howell, Julianne R. (CMS/CTR)</vt:lpwstr>
  </property>
  <property fmtid="{D5CDD505-2E9C-101B-9397-08002B2CF9AE}" pid="5" name="_EmailSubject">
    <vt:lpwstr>PVBP Slides renamed</vt:lpwstr>
  </property>
  <property fmtid="{D5CDD505-2E9C-101B-9397-08002B2CF9AE}" pid="6" name="_NewReviewCycle">
    <vt:lpwstr/>
  </property>
</Properties>
</file>