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97700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C792A-D484-4471-B115-2A2F95CC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80AC8-6245-4D18-9A40-92360969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A5D79-390A-4992-BA21-474A3658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035B-C052-4CFE-9E06-045EA72E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39A98-EC81-4A7B-9A55-5C02C20A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D93AD-C657-4467-96A9-EC145ECD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DAEAB-EC20-4E6A-B524-1802B0D3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94061-ABB0-474A-A0B6-D97F1C78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9CE14-87B7-4D72-8B2E-FA612EDC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283FF-2412-489E-A84E-D07E4794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59C24-218D-4E65-90A1-12BC8926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51E7A-8FFF-4D41-9772-CA7B7883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833E1-1DE3-44FC-B5EB-3C365EA0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2E326-3F08-42BB-8AD1-7337CB64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540B1-2D15-4369-83C6-CA43F898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FAB00-A136-4A93-B2FD-BD7CB7F1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B0D26-95CF-49E1-8BAA-6ECA4258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5BD67-3CF8-4A25-AD97-705270E4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E9DE0-6BBB-4794-B712-D3C229BB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6393B-5A84-4938-AFB5-AA0EBD4E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FA5C9-16BB-458F-814A-67A92502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4A8FE-98E6-4980-ACB6-3C55ADEC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7C33B-2396-4BEF-962A-5187BFC4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250CC-DCC1-4E68-ADA5-43B54291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86F1-9F6F-41D7-95B4-B831BF5395F6}" type="slidenum">
              <a:rPr b="0" lang="en-US" sz="12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51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34F9-172A-430D-8332-B9EBF0D4D9B8}" type="slidenum">
              <a:rPr b="0" lang="en-US" sz="1200" spc="-1" strike="noStrike">
                <a:solidFill>
                  <a:srgbClr val="00051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00400" y="5249880"/>
            <a:ext cx="307512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0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9144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tructure, Process, &amp;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2895480"/>
            <a:ext cx="55562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homas B. Valuck, M.D., J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l Officer &amp; Senior Advi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er for Medicar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05920" y="6324480"/>
            <a:ext cx="457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2EA98-005C-4642-B173-F6DE79998F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Gener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gage stakeholder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pply experience from Medicare VBP initiatives and from private-sector performance-based payment initia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sider multiple approaches to accommodate multiple practice arrangements and care sett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EA954-8B22-4831-83F3-C916FDA805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11430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eneral (continue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void creating additional health care disparities and work to reduce existing o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velop an ongoing evaluation process to assess impact, monitor for unintended consequences, and support improvement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tailed principles will be addressed in relevant pres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sign Principl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6F743-EE42-4A19-A50A-CB49751D5D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orning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troduction, Context, Overarching Questions, and comments – 75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asures presentation and comments –            60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unch – 45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fternoon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ncentive Structure presentation &amp; comments -   60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ata Strategy and Public Reporting presentations &amp; comments – 40 minutes ea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eneral comments – 30 minut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-21996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ext Step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72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onduct of the Ses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878B7-E00C-4582-B02E-3A26671088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ate your name and organiz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imit remarks to 2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mments first from those on-site, then from teleconference participa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eel free to leave the room, as needed;  only formal break will be lun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1824480" y="223920"/>
            <a:ext cx="564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onduct of the Se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9E37C-2CB6-4986-8F25-8E25BB6C70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ill the stated objectives, assumptions, and principles support higher quality of care for Medicare beneficiaries and better value from Medicare spending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at other planning parameters should be considered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3CACD-507F-4E36-90D2-37047595CC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s it desirable to have several different approaches to accommodate different practice arrangements across various care setting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f so, how should this be accomplished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E71AA-BD5F-410E-AEFC-4DE13649E7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arching 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19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hat steps can CMS take in the design and implementation of the PVBP Plan to reduce health care disparities or, at a minimum, to avoid exacerbating existing dispariti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9BB4B-36DB-4C11-AABD-A0951865FC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5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Opportunity for Public Com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3170160" y="223920"/>
            <a:ext cx="27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99"/>
                </a:solidFill>
                <a:latin typeface="Tahoma"/>
              </a:rPr>
              <a:t>Thank You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87103-4056-4696-B995-D74C5DEFD5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the Prese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egislative backgrou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verview of CMS process to develop the Pl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VBP assumptions and general design princip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pproach to conducting the Listening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verarching Questions for com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94A78-09D4-4B52-A302-CCE44FAA51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Legislative Backgroun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 Improvements for Patients and Providers Act (MIPPA) of 2008 requires Secretary of Health and Human Services to develop a plan to transition to value-based purchasing for physician and other professional servic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port to Congress to be submitted by May 1, 2010 containing Plan with recommendations for legislation and administrative ac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DF0D0-2793-44C2-83FA-90671BDCC1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Development Structure</a:t>
            </a:r>
            <a:r>
              <a:rPr b="1" lang="en-US" sz="5400" spc="-1" strike="noStrike">
                <a:solidFill>
                  <a:srgbClr val="ffcc00"/>
                </a:solidFill>
                <a:latin typeface="Garamond"/>
              </a:rPr>
              <a:t> 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spcAft>
                <a:spcPts val="79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MS PVBP Workgroup with Subgroups to add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entive Struc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trategy &amp; Infra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F2D9B-F55F-408F-A679-F863A2FB6A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MS Subgroup Lead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91440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ichael Rapp, MD, JD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ffice of Clinical Standards &amp; Quality (OCSQ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Karen Milgate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ffice of Policy (O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centive 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errence Kay &amp; Thomas Valuck, MD, JD, 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Center for Medicare Managemen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ata Strategy &amp; Infrastructur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illiam Matos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CSQ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ublic Repor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Jane Thorpe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Jayne Hammen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Office of Beneficiary Information Servi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F9AB6-D966-49AF-8AF9-0E9524F0AE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ahoma"/>
              </a:rPr>
              <a:t>CMS PVBP Workgroup Tasks and Expected Timeline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80720" y="1219320"/>
            <a:ext cx="6782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harter Workgroup &amp; Subgroup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 Issues Pap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duct Listening Session for          Stakeholder Input on Issues Pap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 Options Pap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posed Listening Session for Input on Options Pape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100000"/>
              </a:lnSpc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epare draft PVBP Plan Re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ubmit Final PVBP Plan Report to Congr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371600"/>
            <a:ext cx="9907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p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Dec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Ju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N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Tahoma"/>
              </a:rPr>
              <a:t>201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May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5556C-64E9-409C-AC6C-09E35D6E2D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440" y="9907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ed by CMS PVBP Workgroup and Subgroup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osted on CMS Website November 24, 200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Outlines key design issues for this Listening S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ssumptions intended to provide flexibility in developing Design Options and draft PVBP Pl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takeholder comments, both presented at this Session and submitted in writing, will assist in developing Design Op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9120" indent="-234360">
              <a:lnSpc>
                <a:spcPct val="95000"/>
              </a:lnSpc>
              <a:spcBef>
                <a:spcPts val="601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 number of different options will be modeled to explore implications for fee-for-service Medicare population and providers serving i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Issues Paper Approach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1A885-7A77-4410-999F-B485FC11F0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91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imary focus will be on performance-based pay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accommodate different practice arrang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recognize the contributions of the members of the health professional te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consider multiple levels of accountability, including individual, teams, groups, and “accountable care entitie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9702D-AAAE-4036-B808-4473B8DF8A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will be at least budget-neutral across at least Medicare Parts A and B and will seek to identify saving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ared savings” options will be considered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itial focus will be fee-for-service Medi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lan design will have short-term (1 – 3 years) and long-term (&gt;3 years) timefra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07545-FB78-4BA1-9269-AC3BA1D2B9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5:39:28Z</dcterms:created>
  <dc:creator>Tinabeth Burton</dc:creator>
  <dc:description/>
  <dc:language>en-US</dc:language>
  <cp:lastModifiedBy>CMS</cp:lastModifiedBy>
  <dcterms:modified xsi:type="dcterms:W3CDTF">2008-12-08T15:38:51Z</dcterms:modified>
  <cp:revision>4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8232597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  <property fmtid="{D5CDD505-2E9C-101B-9397-08002B2CF9AE}" pid="7" name="_PreviousAdHocReviewCycleID">
    <vt:r8>19914282</vt:r8>
  </property>
</Properties>
</file>