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3C7-4113-4284-A099-12815166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50E-34D5-427C-B1A6-88A48E27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DC3-BC78-4838-9299-C790196D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837-23BE-4BD1-AB26-E2971A19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6C1-5B5F-484A-BF72-FF619E9A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190-E87D-4143-9FFD-3B82886D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36BA-0F96-447A-92C5-2BBD278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EAC-6ECD-4DA9-BE17-9216D048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4F8-B8A0-43AB-A917-499AD472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EFD1-82BE-4A14-8C0B-624E459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6E5-7E5F-4E24-935C-63092D7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0B5-E096-470D-B373-26B6C14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D8E-12D1-4A7E-A77D-23340EE2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Meas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ichael T. Rapp, MD, JD, FAC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Quality Measurement &amp; Health Assessment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ffice of Clinical Standards and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aren Mil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, Office of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7E40-4C5E-40BB-9264-E455235E18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Using and Combining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 measures are not equal. Combinations could be flexible.  For example, well-accepted measures affecting larger numbers of beneficiaries could get more weight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chanism for creating compos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warding both attainment of set threshold of performance and improvement on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eraction between quality and resource use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ing at different levels of account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A2D-8162-467A-BB81-6BA2BCC902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mmary of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ich quality and resource use measures best achieve the stated go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hould the Plan focus solely on individual practices, or is there a way to broaden accoun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rategies for measurement best address the technical challenges invol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iven current and potential data sources, which measures and level of accountability would be most effe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f combinations of measures are used, should they be equally weighted?  If not, which should receive more or less weigh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D26-4E88-43C8-99FA-25A1E9AE55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AEA-E310-4898-A808-F6BBF23AFA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Ke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Quality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oice of Resource Us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Unit of Measurement and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bining Mea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B3F-3EEE-4F37-8515-FB780CA137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key dimensions of quality, with attention to outcomes, cost of care, patient experience, care coordination, prevention, and adoption and use of 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mmodate the continued evolution and incorporation of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ign measures across providers and setting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just measurement data for fairness, where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C9A3-662C-42DB-9D35-94B8871AD3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orporate quality and resource us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uild on current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alance the precision of a measure with the manner in which it i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coordination with other providers to the extent 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eek to align Medicare efforts with other p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8FA-89E2-4803-A52B-8DB6E3872B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ata 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bundant data, but limited scope at physician practice level and at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ugmente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road scope of measures and self-at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enefits of augmented claims plus capt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linical, primary source data; EHR use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Colle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bined 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644-90B0-41CD-8767-3762907EC2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Technical Challeng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nchmarking/Pee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isk-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ers (resource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fessionals and CM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EF0-0FA1-4669-BAED-48D5E8908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Quality Meas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linical proces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comes, including intermediate, such as HgbA1c levels, and longer term, such as potentially avoidable admis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ructural, such as EHR use and e-prescrib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 perception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F5C-99AB-40F3-8625-D390264FA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esource Use Meas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sible lev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specific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uld be used in combination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4EB-7ADE-4A8D-8756-DE4A4F889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Accountable Entity and Unit of Measur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dividual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roup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ountable care entit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bination?  For example, re-admissions at the system level and PQRI for individual physicia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2CC-8E8D-4C47-B0DE-DB5D9202A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5:04Z</dcterms:created>
  <dc:creator>CMS</dc:creator>
  <dc:description/>
  <dc:language>en-US</dc:language>
  <cp:lastModifiedBy>CMS</cp:lastModifiedBy>
  <dcterms:modified xsi:type="dcterms:W3CDTF">2008-12-08T15:39:29Z</dcterms:modified>
  <cp:revision>14</cp:revision>
  <dc:subject/>
  <dc:title>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2570744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