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984000" cy="927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74320" y="695160"/>
            <a:ext cx="4635720" cy="3476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80740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1BDC5061-79FB-4357-B8EF-707A9BA298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EA16498A-DB83-48B1-9B61-8BDEA24D3C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12A6AB4D-DE3B-465D-97F7-2547CA381E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4FE1DAFD-9037-4060-A05A-CF246E8C71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E114E10D-BB88-4531-8A10-D96DBACBDC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CC3871D5-0818-42A9-B7B0-37E0811EFF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36BADE7E-50FD-456A-A4ED-E20AEEFC98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A3C2CD2E-7FC9-44EB-B62E-7EDBE104C9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37BFF8FC-A1C0-4221-AF87-DBC6579FC5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4D15EFEA-D031-4BEC-9BA0-158AD9CCDF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4E32FFAE-B926-4385-B457-5175102445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35B47A0C-68E8-4D11-9CDB-4553B9F4CA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3AFB90C3-A4CE-46EB-99DD-776065F476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18784-6684-459E-A1F8-27FD49778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09F9A-C821-4F25-9D37-22CD04DAD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940AD-272A-4B3F-8629-815717183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BD352-5317-45F5-84E6-FD357DA74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6C306-C670-411B-BE7C-7B3C29EA9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3E300-6B69-4B5A-AEC3-CEFCD09DB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2E0C0-88DF-4AAE-BF44-20BC73640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CB3E4-451D-48C2-BD45-D0AB02E99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53133-B905-4000-B181-D8CA7D2E4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5D033-DBAB-44C9-A2A6-68DE02DB4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76683-4CA7-47A4-BBE3-B691E555F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1A37B-EE4B-476C-AEB9-2747C6499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200FB-C5FF-4DBC-8A21-14E3F2F2BBCF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94993-BB83-4AF6-8EBD-000601B4E2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1000" spc="-1" strike="noStrike" u="sng">
                <a:solidFill>
                  <a:srgbClr val="003399"/>
                </a:solidFill>
                <a:uFillTx/>
                <a:latin typeface="Arial"/>
              </a:rPr>
              <a:t> </a:t>
            </a:r>
            <a:r>
              <a:rPr b="0" lang="en-US" sz="4800" spc="-1" strike="noStrike" u="sng">
                <a:solidFill>
                  <a:srgbClr val="003399"/>
                </a:solidFill>
                <a:uFillTx/>
                <a:latin typeface="Arial"/>
              </a:rPr>
              <a:t>  </a:t>
            </a:r>
            <a:br>
              <a:rPr sz="4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8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800"/>
            </a:br>
            <a:br>
              <a:rPr sz="48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33160" y="2437920"/>
            <a:ext cx="8001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Jane Hyatt Thor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Deputy Director, Office of Poli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Jayne Ham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Office of Beneficiary Information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1447920" y="2057400"/>
            <a:ext cx="6705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1905120" y="1219320"/>
            <a:ext cx="6019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Tahoma"/>
              </a:rPr>
              <a:t>    </a:t>
            </a: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Public Reporting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1905120" y="5181480"/>
            <a:ext cx="5257800" cy="92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Listening Session 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December 9, 2008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Slide Number Placeholder 4"/>
          <p:cNvSpPr/>
          <p:nvPr/>
        </p:nvSpPr>
        <p:spPr>
          <a:xfrm>
            <a:off x="8705880" y="6496200"/>
            <a:ext cx="3808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D84A5-97CF-496E-863F-AFB06F06F8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Public Reporting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739152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What information should be reported?  Are some measures more appropriate for public reporting than othe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Consid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Information will be driven in large part by measure sele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Are some measures more suitable for public accountability or informed consumer choice?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Slide Number Placeholder 4"/>
          <p:cNvSpPr/>
          <p:nvPr/>
        </p:nvSpPr>
        <p:spPr>
          <a:xfrm>
            <a:off x="8705880" y="6496200"/>
            <a:ext cx="3808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58359-BDCE-45F7-AC24-D9745B0DB0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Public Reporting Ques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914400"/>
            <a:ext cx="792468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Should resource use information be publicly reported in addition to quality inform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Consid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Should resource use information be provided confidentially or publicly report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If resource use information were publicly report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Should quality and resource use information be reported togeth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How should resource use information be fram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How might patients perceive and use the informa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Slide Number Placeholder 4"/>
          <p:cNvSpPr/>
          <p:nvPr/>
        </p:nvSpPr>
        <p:spPr>
          <a:xfrm>
            <a:off x="8705880" y="6496200"/>
            <a:ext cx="3808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F64B4-BA28-4530-AF8C-C99B940F8E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Public Reporting Ques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7924680" cy="62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How should the performance measurement results be scored to facilitate interpret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Consid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How should public reporting use the scoring used in determining incentive paymen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Should all performance measurement results be publicly report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How should the performance measurement results be displayed to facilitate understanding and use by Medicare beneficiaries, the public, professionals, and other providers?</a:t>
            </a:r>
            <a:br>
              <a:rPr sz="2400"/>
            </a:b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lide Number Placeholder 4"/>
          <p:cNvSpPr/>
          <p:nvPr/>
        </p:nvSpPr>
        <p:spPr>
          <a:xfrm>
            <a:off x="8705880" y="6496200"/>
            <a:ext cx="3808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A1B6B-4C38-4815-A9CE-6689EF1E21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Public Reporting Ques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How should the performance measurement results be displayed to facilitate understanding and use by Medicare beneficiaries, the public, professionals, and other provide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Consid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Use of composit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Use of numbers or star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Should any information be suppress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Use of benchmark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Use of trending information?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Summary of Question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At what level should information be report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What information should be reported?  Are some measures more appropriate for public reporting than othe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Should resource use information be publicly reported in addition to quality inform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How should the performance measurement results be scored to facilitate interpret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How should the performance measurement results be displayed to facilitate understanding and use by Medicare beneficiaries, the public, professionals, and other provide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4"/>
          <p:cNvSpPr/>
          <p:nvPr/>
        </p:nvSpPr>
        <p:spPr>
          <a:xfrm>
            <a:off x="8705880" y="6496200"/>
            <a:ext cx="3808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ABFED-A60C-48FF-B094-FA8F439130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3399"/>
                </a:solidFill>
                <a:latin typeface="Tahoma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80520" y="18284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Opportunity for Public Com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Slide Number Placeholder 4"/>
          <p:cNvSpPr/>
          <p:nvPr/>
        </p:nvSpPr>
        <p:spPr>
          <a:xfrm>
            <a:off x="8705880" y="6496200"/>
            <a:ext cx="3808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39610-FBD0-4246-B600-ECA8C060F8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Overview of Presen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43000" y="1676520"/>
            <a:ext cx="73915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Goals of Public Repor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Design Consid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Current CMS Initia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Public Reporting Ques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Slide Number Placeholder 4"/>
          <p:cNvSpPr/>
          <p:nvPr/>
        </p:nvSpPr>
        <p:spPr>
          <a:xfrm>
            <a:off x="8705880" y="6496200"/>
            <a:ext cx="3808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D883C-13A2-4C6A-8BD4-EA9EA7F63E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Goals of Public Report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14040" y="1523880"/>
            <a:ext cx="746748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Foster greater transpar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Improve quality and reduce co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Support more informed decision-making by various stakehol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Support quality and efficiency assessment and impro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Support improved care coordin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Public accoun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Slide Number Placeholder 4"/>
          <p:cNvSpPr/>
          <p:nvPr/>
        </p:nvSpPr>
        <p:spPr>
          <a:xfrm>
            <a:off x="8705880" y="6496200"/>
            <a:ext cx="3808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EF3D9-B064-4B65-87E1-986F7BD85D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Design Consider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837720"/>
            <a:ext cx="74678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Physician VBP public reporting will build upon CMS’ current public reporting efforts and be modeled after existing Compare websi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Public reporting has multiple audiences, including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Medicare patients (beneficiari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Other patients and their friends &amp; fam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Physicians and other professional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Medicare progra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Other Pay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Slide Number Placeholder 4"/>
          <p:cNvSpPr/>
          <p:nvPr/>
        </p:nvSpPr>
        <p:spPr>
          <a:xfrm>
            <a:off x="8705880" y="6496200"/>
            <a:ext cx="3808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9BCB4-80DB-4DAA-AD74-453C4370A8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Design Consider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1599840"/>
            <a:ext cx="74678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Public reports are designed and tested to insure that physicians, patients, their caregivers, and others understand and can use them accurat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Public reports will use performance and other relevant information to help physicians, patients, and other stakeholders in their decision-ma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Slide Number Placeholder 4"/>
          <p:cNvSpPr/>
          <p:nvPr/>
        </p:nvSpPr>
        <p:spPr>
          <a:xfrm>
            <a:off x="8705880" y="6496200"/>
            <a:ext cx="3808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78D15-ECB8-4C5C-96C7-B8775E573D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Current CMS Initiatives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523880"/>
            <a:ext cx="7086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Better Quality Information for Medicare Beneficiaries (BQI)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Chartered Value Exchan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Future Physician Compare Webs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Slide Number Placeholder 4"/>
          <p:cNvSpPr/>
          <p:nvPr/>
        </p:nvSpPr>
        <p:spPr>
          <a:xfrm>
            <a:off x="8705880" y="6496200"/>
            <a:ext cx="3808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5D6AF-2803-4D7F-91E5-E9D2301CFE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"/>
              </a:rPr>
              <a:t>Current Physician Direct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4678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"/>
          <p:cNvPicPr/>
          <p:nvPr/>
        </p:nvPicPr>
        <p:blipFill>
          <a:blip r:embed="rId1"/>
          <a:srcRect l="0" t="3125" r="3127" b="1875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Slide Number Placeholder 4"/>
          <p:cNvSpPr/>
          <p:nvPr/>
        </p:nvSpPr>
        <p:spPr>
          <a:xfrm>
            <a:off x="8705880" y="6496200"/>
            <a:ext cx="3808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56359-E222-4E78-9481-2C1BE7673C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"/>
              </a:rPr>
              <a:t>Hospital Comp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4678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rcRect l="4688" t="9376" r="4688" b="729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Slide Number Placeholder 4"/>
          <p:cNvSpPr/>
          <p:nvPr/>
        </p:nvSpPr>
        <p:spPr>
          <a:xfrm>
            <a:off x="8705880" y="6496200"/>
            <a:ext cx="3808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0D2DC-E72D-46BD-84AD-4823EFFB06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Public Reporting Ques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761760" y="1143000"/>
            <a:ext cx="79246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At what level should information be report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5000"/>
              </a:lnSpc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Individ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5000"/>
              </a:lnSpc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Group pract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5000"/>
              </a:lnSpc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Population-ba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5000"/>
              </a:lnSpc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Comb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5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Consid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What level is most actionable for beneficiaries, physicians and other providers, the Medicare program, and other stakeholder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What level best supports improved care coordination and reflects how beneficiaries receive care?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9T15:08:35Z</dcterms:created>
  <dc:creator>CMS</dc:creator>
  <dc:description/>
  <dc:language>en-US</dc:language>
  <cp:lastModifiedBy>CMS</cp:lastModifiedBy>
  <dcterms:modified xsi:type="dcterms:W3CDTF">2008-12-08T15:41:45Z</dcterms:modified>
  <cp:revision>9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273352847</vt:r8>
  </property>
  <property fmtid="{D5CDD505-2E9C-101B-9397-08002B2CF9AE}" pid="3" name="_AuthorEmail">
    <vt:lpwstr>Julianne.Howell@cms.hhs.gov</vt:lpwstr>
  </property>
  <property fmtid="{D5CDD505-2E9C-101B-9397-08002B2CF9AE}" pid="4" name="_AuthorEmailDisplayName">
    <vt:lpwstr>Howell, Julianne R. (CMS/CTR)</vt:lpwstr>
  </property>
  <property fmtid="{D5CDD505-2E9C-101B-9397-08002B2CF9AE}" pid="5" name="_EmailSubject">
    <vt:lpwstr>PVBP Slides renamed</vt:lpwstr>
  </property>
  <property fmtid="{D5CDD505-2E9C-101B-9397-08002B2CF9AE}" pid="6" name="_NewReviewCycle">
    <vt:lpwstr/>
  </property>
</Properties>
</file>