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33B-0482-4AA3-9EB2-98A532B5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D99-D2F2-471D-A159-5AE3A497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3AC-76A8-4CF9-B9AE-B20A1B87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68B-3BA3-44C1-A7C3-61430841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97E-4792-4270-8624-704478EA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9A5-0979-4056-A9D7-09DBDBD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ACB-1D7B-45D8-840F-B200146F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F33-C087-4584-ACE7-89171A9C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C2A-DD11-414B-B8D8-1EDAF222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594-2562-4B06-99ED-D031CF6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585-DA6A-43AD-BC54-ED8E481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2AD-CC5D-48E5-A4F3-5480EE75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8A54-D5EA-4D61-9E68-6198C156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2666880"/>
          <a:ext cx="32767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66880"/>
                    <a:ext cx="327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6320" y="2590920"/>
          <a:ext cx="335268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590920"/>
                    <a:ext cx="3352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0492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7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8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0680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5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9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40 Million (2.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8276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10.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30 Million (2.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Outpatient PPS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dicare payments increase, the beneficiary co-pay also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289080"/>
          <a:ext cx="6781680" cy="32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080"/>
                    <a:ext cx="6781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80880" y="3668760"/>
          <a:ext cx="6477120" cy="318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68760"/>
                    <a:ext cx="64771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121760" y="3733920"/>
            <a:ext cx="62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Service Payment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6320" y="365040"/>
            <a:ext cx="51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APC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05084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jority of the APCs will have higher payments under the final rule than they did in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26708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utilization into account, a large majority of the service payments will be hig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957240"/>
          <a:ext cx="3962520" cy="27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7240"/>
                    <a:ext cx="3962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3962520"/>
          <a:ext cx="4267080" cy="267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962520"/>
                    <a:ext cx="42670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0948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Procrit (non-ESRD epoetin al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Lu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Cisp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0" y="880920"/>
          <a:ext cx="4495680" cy="2853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880920"/>
                    <a:ext cx="44956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0" y="3962520"/>
          <a:ext cx="4572000" cy="2654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962520"/>
                    <a:ext cx="4572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95288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Factor vii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1920" y="152280"/>
            <a:ext cx="24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Drug Paymen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2:47:35Z</dcterms:created>
  <dc:creator>Bill Roger</dc:creator>
  <dc:description/>
  <dc:language>en-US</dc:language>
  <cp:lastModifiedBy>CMS</cp:lastModifiedBy>
  <dcterms:modified xsi:type="dcterms:W3CDTF">2002-10-31T17:47:17Z</dcterms:modified>
  <cp:revision>36</cp:revision>
  <dc:subject/>
  <dc:title>PowerPoint Presentation</dc:title>
</cp:coreProperties>
</file>