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E84F9B3-D50B-4554-BD15-7384BA2FE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46180BE-3893-42AA-B42D-E85FEF921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7160" cy="3476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quality grade can translate into HICPAC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CF61024-2C3E-4E6A-AD19-DCFDB822F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&lt;footer&gt;</a:t>
            </a: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hyperlink" Target="http://www.cms.hhs.gov/HospitalOutpatientPPS" TargetMode="External"/><Relationship Id="rId2" Type="http://schemas.openxmlformats.org/officeDocument/2006/relationships/hyperlink" Target="http://www.cms.hhs.gov/HospitalAcqCond" TargetMode="External"/><Relationship Id="rId3" Type="http://schemas.openxmlformats.org/officeDocument/2006/relationships/hyperlink" Target="mailto:heather.hostetler@cms.hhs.gov" TargetMode="External"/><Relationship Id="rId4" Type="http://schemas.openxmlformats.org/officeDocument/2006/relationships/hyperlink" Target="mailto:carol.bazell@cms.hhs.gov" TargetMode="External"/><Relationship Id="rId5" Type="http://schemas.openxmlformats.org/officeDocument/2006/relationships/hyperlink" Target="mailto:sheila.roman@cms.hhs.gov" TargetMode="External"/><Relationship Id="rId6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dc.gov/od/oc/media/pressrel/r2k0306b.htm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docket.access.gpo.gov/2008/pdf/E8-17914.pdf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cdc.gov/ncidod/dhqp/hicpac.html" TargetMode="Externa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cms.hhs.gov/HospitalAcqCond/" TargetMode="Externa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cdc.gov/nchs/datawh/ftpserv/ftpicd9/icdguide08.pdf" TargetMode="Externa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838080" y="279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Disease Control &amp; Preven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cy for Healthcare Research &amp; Quality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Acquired Conditions &amp; Hospital Outpatient Healthcare-Associated Conditions Listening Session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, December 18, 2008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VB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improvement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nnberg’s Dartmouth Atlas on variation in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Glynn’s NEJM findings on lack of evidence-based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M’s Crossing the Quality Chasm f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Unnecessary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’s various fee-for-service fee schedules and prospective payment systems are based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ource consum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are,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necessary costs avo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ment systems’ incentives are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Questions to Addre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ommon in the HOP sett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guidelines/prevention interventions exi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pretation of the term “…reasonably…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effective are prevention intervent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we identif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ugh ICD-9 codes or other HOP claim reporting mechani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P conditions that result in inpatient ad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we measu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for sequential evaluation of Medicare clai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measu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t-based vs. rate-ba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s and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-HAC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Register/ Vol. 73, No. 223/ p.68781-68787 at: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ms.hhs.gov/HospitalOutpatient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HAC information: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http://www.cms.hhs.gov/HospitalAcq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-HAC cont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heather.hostetler@cms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carol.bazell@cms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5"/>
              </a:rPr>
              <a:t>sheila.roman@cms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 Public Comment S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noon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sing Remark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 Rich, M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Officer &amp; Senior Ad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sing Remark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 Valuck, MD, J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VB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Solvency and Beneficia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ditures up from $219 billion in 2000 to a projected $486 billion in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A Trust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ss of expenditures over tax income i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ed to be depleted by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B Trust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nditures increasing 11% per year over the last 6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premiums, deductibles, and cost-sharing are projected to consume 28% of the average beneficiaries’ Social Security check in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 for VB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’s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s 2006-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essional Interest in P4P and Other Value-Based Purchas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PA, MMA, DRA, TRCHA, MMSEA, MIP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PAC Reports to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4P recommendations related to quality, efficiency, health information technology, and payment r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M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4P recommendation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Err Is Hu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ossing the Quality Ch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warding Provider Performance: Aligning Incentives in Medi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health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 coal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Demonstrations and 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ier Hospital Quality Incentiv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Group Practic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Care Management Performanc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ing Home Value-Based Purchasing Demonst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Health Pay for Performanc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Demonstrations and 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Health Support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Management for High-Cost Beneficiaries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Healthcare Quality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sharing 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ute Care Episode (ACE)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Quality Information (BQI)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Health Records (EHR)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Hom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371600"/>
            <a:ext cx="7696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Quality Initiative: Inpatient &amp; Outpatient Pay f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VBP Plan &amp; Report to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Acquired Conditions &amp; Present on Admission Indicat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Quality Reporting Initi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Resource Use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VBP Plan &amp; Report to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Health Care Pay f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RD Pay fo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Initia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819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spital-Acquired Conditions and Present on Admission Indicat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3505320"/>
            <a:ext cx="6324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AC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M estimated in 1999 that as many as 98,000 Americans die each year as a result of medical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national costs of these errors estimated at $17-29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M:  To Err is Human: Building a Safer Health System, November 1999.  Available at:  http://www.iom.edu/Object.File/Master/4/117/ToErr-8pager.pd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AC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0, CDC estimated that hospital-acquired infections add nearly $5 billion to U.S. health care costs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ers for Disease Control and Prevention:  Press Release, March 2000.  Available at: 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dc.gov/od/oc/media/pressrel/r2k0306b.ht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2007 study found that, in 2002, 1.7 million hospital-acquired infections were associated with 99,000 de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evens et al.  Estimating Health Care-Associated Infection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aths in U.S. Hospitals, 2002.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ublic Health Repor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March-Apr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.  Volume 12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AC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2007 Leapfrog Group survey of 1,256 hospitals found that 87% of those hospitals do not consistently follow recommendations to prevent many of the most common hospital-acquired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 Leapfrog Group Hospital Survey.  The Leapfrog Group 2007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at:  http://www.leapfroggroup.org/media/file/Leapfrog_hospital_acquired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ections_release.pd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 Admini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ing Remark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b Kuh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tory Authority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 Section 5001(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ctober 1, 2007, IPPS hospitals were required to submit data on their claims for payment indicating whether diagnoses were present on admission (P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ctober 1, 2008, CMS cannot assign a case to a higher DRG based on the occurrence of one of the selected conditions, if that condition was acquired during the hospit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tory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must select conditions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st, high volume, 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ed to a higher paying DRG when present as a secondary dia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ably preventable through the application of evidence-based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C Selec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MS and Centers for Disease Control and Prevention (CDC) internal Workgroup selected the H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comments from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/CDC sponsored List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17, 2007 &amp; December 18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hoc meetings with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atient Prospective Payment System (IPPS) rule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and Final rules for Fiscal Years (FY) 2007, 2008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Hospital &amp; Ambulatory Poli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and Candidate HAC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e Kelly, M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HACs for Imple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ign object retained after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embo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in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ul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s III &amp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cranial in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hing in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HACs for Imple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festations of poor glycem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glycemic 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betic keto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keototic hyperosmolar 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diabetes with keto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diabetes with hyperosmo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eter-associated urinary tract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cular catheter-associated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vein thrombosis (DVT)/pulmonary embolism (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knee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HACs for Imple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 Surgical site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stinitis after coronary artery bypass graft (CAB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 orthopedic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b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iatric surgery for obe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rascopic gastric by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troenterost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aroscopic gastric restrictive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didate H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Year 2009 Inpatient Prospective Payment System (IPPS) final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edocket.access.gpo.gov/2008/pdf/E8-17914.pd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page 3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didate H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ical site infection following device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to resc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th or disability associated with drugs, devices, or biolog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hyd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-borne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didate HA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ical site infections following procedures – orthopedic and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ilator-associated pneu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ostridium diffic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ssociated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Polic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 for Disease Control &amp;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ing Remark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e Haddix, Ph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 Director, CDC – Division of Healthcare Quality Pr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idence-Based Guideline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sley Richards, MD, M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C supports CMS efforts to align payment an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, and elimination eventually, of healthcare-associated infections i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ly 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n effective value-bas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ly, payment 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 the application of evidence-based preven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 transpar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centivize payment for preventable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ally, payment will reward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31880" y="868320"/>
            <a:ext cx="768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111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C is working to prevent hospital-acquir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51040" y="114300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ien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3792960" y="-705240"/>
            <a:ext cx="1558080" cy="63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265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2651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9720" y="2514600"/>
            <a:ext cx="1461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Healthcare-associated Inf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50160" y="2514600"/>
            <a:ext cx="1461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ntimicrobial 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75080" y="1782720"/>
            <a:ext cx="0" cy="73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1782720"/>
            <a:ext cx="0" cy="73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514600"/>
            <a:ext cx="1461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dverse Drug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46680" y="2514600"/>
            <a:ext cx="1461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ransfusion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ransplant 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520" y="3611520"/>
            <a:ext cx="11890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Device/ Procedure -rel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46280" y="3611520"/>
            <a:ext cx="11890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Settings/ Practices-relate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22240" y="3246480"/>
            <a:ext cx="1096920" cy="365040"/>
            <a:chOff x="822240" y="3246480"/>
            <a:chExt cx="1096920" cy="365040"/>
          </a:xfrm>
        </p:grpSpPr>
        <p:sp>
          <p:nvSpPr>
            <p:cNvPr id="129" name=""/>
            <p:cNvSpPr/>
            <p:nvPr/>
          </p:nvSpPr>
          <p:spPr>
            <a:xfrm flipH="1">
              <a:off x="822240" y="324648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69800" y="324648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822240" y="4343400"/>
            <a:ext cx="1096920" cy="365040"/>
            <a:chOff x="822240" y="4343400"/>
            <a:chExt cx="1096920" cy="365040"/>
          </a:xfrm>
        </p:grpSpPr>
        <p:sp>
          <p:nvSpPr>
            <p:cNvPr id="132" name=""/>
            <p:cNvSpPr/>
            <p:nvPr/>
          </p:nvSpPr>
          <p:spPr>
            <a:xfrm flipH="1" flipV="1">
              <a:off x="822240" y="434340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369800" y="434340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74680" y="4800600"/>
            <a:ext cx="21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RSA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Lucida Sans Unicode"/>
              </a:rPr>
              <a:t>C. Difficile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Lucida Sans Unicode"/>
              </a:rPr>
              <a:t>Acinetobacte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3581280"/>
            <a:ext cx="42066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break Invest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tion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vention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mural Applied Prevention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Research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elines for Preventing H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re guidelines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organizations, Task Forces, Government agencies, academic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s for interventions based scientific evidence or expert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velops and uses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, clin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makers,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care Infection Control Practices Advisory Committee (HICP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Secretary…and the Director, Centers for Disease Control and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dvice and guidance regarding the practice of infection control and strategies for surveillance, prevention, and control of healthcare-associated infections … in settings … including hospitals, long-term care facilities, and home health agen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 updating of existing guidelines, development of new guidelines, guideline evaluation; and other policy statements regarding the prevention of healthcare-associated infections and healthcare-related condi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CPAC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ittee shall consist of 14 public members, including the Cha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able in the fields of infectious diseases, healthcare-associated infections and healthcare-related events, epidemiology, health policy, health services research, public health, and related fie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voting Federal representatives from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cy for Healthcare Research and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 and Drug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s for Medicare and Medicai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Resources and Services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stitutes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CPAC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voting liaison representatives from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 of Professionals in Infection Control and Epidemiology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ety for Healthcare Epidemiology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 of Perioperative Registered N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Hospital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Health Care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College of Occupational and Environmental Medic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Commission on Accreditation of Healthcare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sory Council for the Elimination of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nonvoting liaison representatives as the Secretary deem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6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CPAC Pub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2-200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Preca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of Multidrug-Resistant 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za Vaccination of Healthcar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ance on Public Reporting of Healthcare-Associated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ng Healthcare Associated Pneum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Infection Control in Healthcare Faci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mallpox Vaccine in a Pre-Event Vaccinatio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ng Intravascular Device-Related Infe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ygiene in Healthcare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7-1999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on of Surgical Site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ction Control in Healthcar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zation of Health Care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ture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arest on the hori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infection Sterilization (in 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vention of catheter-associated U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ovirus in healthcare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ccinations for healthca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veillance and risk assessment, Ambulatory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846000" y="-1305000"/>
            <a:ext cx="10836000" cy="94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Officer &amp; Senior Ad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S’ Value-Based Purchasing Initiative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 Valuck, MD, J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3750" t="9657" r="0" b="0"/>
          <a:stretch/>
        </p:blipFill>
        <p:spPr>
          <a:xfrm>
            <a:off x="0" y="0"/>
            <a:ext cx="944892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Guidelin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2600" y="1980720"/>
            <a:ext cx="7815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guidelines vs. “guida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 and Norovirus Guidelines as test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apid production and upd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ransparency and reproduc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ng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0" y="228600"/>
          <a:ext cx="9144000" cy="5873760"/>
        </p:xfrm>
        <a:graphic>
          <a:graphicData uri="http://schemas.openxmlformats.org/drawingml/2006/table">
            <a:tbl>
              <a:tblPr/>
              <a:tblGrid>
                <a:gridCol w="2133720"/>
                <a:gridCol w="2166840"/>
                <a:gridCol w="2506680"/>
                <a:gridCol w="2336760"/>
              </a:tblGrid>
              <a:tr h="878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CP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Benefit / H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 to High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 -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- 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 – High to 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to High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e-of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High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– Low to 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to Low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 for further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ertain Trade-of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to Low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commendation / Unresolved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441972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-driven out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36160" y="1981080"/>
            <a:ext cx="890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1. Which patients should receive urinary cathe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2. What practices/factors decrease the risk of infection associated with urinary cathe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3. What are the best methods to manage urinary catheter-associated compl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3480" y="0"/>
          <a:ext cx="9110520" cy="6095880"/>
        </p:xfrm>
        <a:graphic>
          <a:graphicData uri="http://schemas.openxmlformats.org/drawingml/2006/table">
            <a:tbl>
              <a:tblPr/>
              <a:tblGrid>
                <a:gridCol w="920520"/>
                <a:gridCol w="776520"/>
                <a:gridCol w="182520"/>
                <a:gridCol w="490320"/>
                <a:gridCol w="1516320"/>
                <a:gridCol w="1261800"/>
                <a:gridCol w="182520"/>
                <a:gridCol w="495360"/>
                <a:gridCol w="2301840"/>
                <a:gridCol w="182880"/>
                <a:gridCol w="799920"/>
              </a:tblGrid>
              <a:tr h="98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uthor, Yr Re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udy Des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udy Obj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pulation and Se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Operative Catheter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hipps, 2006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ystematic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,2,3,4,5,6,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 establish the optimal way to manage urinary catheters following urogenital surgery in ad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domized and quasi-randomized trial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9 R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  <a:ea typeface="Times New Roman"/>
                        </a:rPr>
                        <a:t>1. Using a urinary catheter vs. not using a urinary cath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ention of uri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1 study) – 0.12(0.03-0.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T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4 studies) – 1.35(0.75-2.4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catheteriza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3 studies) – 0.32(0.14-0.7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st-op urethral strict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1 study) – 1.14(0.90-1.4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st-op hematuri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1 study) – 0.73(0.40-1.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6520" y="2130120"/>
            <a:ext cx="8602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dc.gov/ncidod/dhqp/hicpac.htm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121932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CPAC Webs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nsurance Specia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Division of Acut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Consideratio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a Grabert, M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ture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and populat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s of HACs for V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priate for some H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of POA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ion of ICD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125 codes capturing size, depth, and location of pressure ul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sion of the IPPS HAC payment provision to other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in the IRF, OPPS/ASC, SNF, LTCH                re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rtunities for HAC &amp; POA  Invol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240" y="129528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the CMS HAC &amp; POA website: 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www.cms.hhs.gov/HospitalAcqCond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Y 2010 Rule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Open Door Foru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Listserv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Cs in Practice – Mediastinitis Following CABG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 Rich, M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’ Value-Based Purchasing (VBP)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’ VBP Demonstrations and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’ VBP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-Acquired Conditions &amp; Present on Admission Indicator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 Scanning and Opportunities for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nsurance Specia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Division of Acut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ding for HAC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dy Hue, RHIA, C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C Statutory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 must trigger higher 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cations, including infections, can be designated complicating conditions (CCs) or major complicating conditions (MC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-DRGs may split into three different levels of severity, based on complications (no CC or MCC, CC, or M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ence of a CC or MCC condition as a secondary diagnosis on a claim generates higher 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A Indicat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on admission (POA) is defined as present at the time the order for inpatient admiss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tions that develop during an outpatient encounter, including emergency department, observation, or outpatient surgery, are considered P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A indicator is assign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ary diagno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rnal cause of injury codes (Medicare requires reporting only if E-code is reported as an           additional diagno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A Indicator Reporting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990720"/>
          <a:ext cx="9144000" cy="5833800"/>
        </p:xfrm>
        <a:graphic>
          <a:graphicData uri="http://schemas.openxmlformats.org/drawingml/2006/table">
            <a:tbl>
              <a:tblPr/>
              <a:tblGrid>
                <a:gridCol w="1225440"/>
                <a:gridCol w="7918560"/>
              </a:tblGrid>
              <a:tr h="544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A Indicator Options and Definitions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son for 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gnosis was present at time 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gnosis was not present at time 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ation insufficient to determine if condition w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 at the time 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inically undetermined.  Provider unable to clinicall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e whether the condition was present at the ti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reported/Not used.  Exempt from POA reporting.  This co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equivalent code of a blank on the UB-04; however, it w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ed that blanks are undesirable when submitting th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via the 4010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A Indicator Repor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A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pays the CC/MCC condition for selected HACs that are coded as “Y” &amp; “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does NOT pay the CC/MCC condition for selected HACs that are coded “N” &amp; “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304920" y="0"/>
          <a:ext cx="8534160" cy="6943680"/>
        </p:xfrm>
        <a:graphic>
          <a:graphicData uri="http://schemas.openxmlformats.org/drawingml/2006/table">
            <a:tbl>
              <a:tblPr/>
              <a:tblGrid>
                <a:gridCol w="5263920"/>
                <a:gridCol w="1917720"/>
                <a:gridCol w="1352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xamples for a single  secondary diagnosi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A Status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ary 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out CC/MC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06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,347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 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06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jury due to a fall (code 836.4 (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,177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Stroke with 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S-DRG 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jury due to a fall (code 836.4 (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,347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 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06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ge III pressure ulcer (code 707.23 (M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,030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 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S-DRG 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ge III pressure ulcer (code 707.23 (M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,347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nsurance Specia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Provider Bill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ife of an Inpatient Acute Care HAC Claim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rah Shirey-Lo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of a Claim: Step #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PS hospital submits a claim to the Medicare Contr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comes into Medicare Claims Processing System and goes through various editing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different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A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POA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POA stream en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OAs does not equal # diagnoses on cl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of a Claim: Step #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RG GROU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a POA indicator is included for all diagn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the POA stream indicator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s all ICD-9-CM codes for HAC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s MS-DRG assignment if an HAC is coded as “N” or “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no other CC/MCCs are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of a Claim: Step #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reimbursement is determined  by Pr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passes though the Common Working File (CW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is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S’ Quality Improve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on:  The right care for every person every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-ce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Systems Administr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C – National Center for Health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dance for POA Indicator Coding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na Pickett, RHIA, M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D-9-CM Official Coding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at:  </a:t>
            </a: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dc.gov/nchs/datawh/ftpserv/ftpicd9/icdguide08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1, 2008 update contains an Appendix of instructions for proper coding  of POA indicator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D-9-CM Official Coding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oint effort between the healthcare provider and the coder is essential to achieve complete and accurate documentation, code assignment, and reporting of diagnoses and procedure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D-9-CM  Official Guidelines for Coding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for POA Coding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Hospital Association’s Coding Cli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Cooperating Par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s for Disease Control &amp;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Health Information Management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Hospital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orial Advisory Board (EA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Quarterly Publications Addressing P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Quarter 2008 – FA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 Public Comment S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ning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AHRQ - Center for Delivery, Organization, and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HRQ’s Research to Enhance and Support Patient Safety Indicator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ene Fraser, Ph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cience An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 – Center for Delivery, Organization, and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HRQ’s Research to Enhance and Support Patient Safety Indicator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e Elixhauser, Ph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study: Adding clinical data elements to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the enhancement of administrative claims data: State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administrative claim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wide data readily available from mos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 Quality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Quali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atient Quality Indicators (mortality, utilization, volu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Safe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diatric Quali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data currently used for public reporting on quality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ations of Current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clinically importa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to ICD-9-CM diagnosis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regarding use of only administrative data for hospital-specific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risk adjustment – additional data needed to predict individual patient’s risk of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 about penalizing providers with the sickest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S’ Quality Improve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hrough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quality and report comparativ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-Based Purchasing:  improve quality and avoid unnecessa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adoption of effective health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innovation and the evidence base for effective us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ion Between Value of Data and Cost of Obtaining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nsylvania hospitals provided chart-abstracted clinical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 concern about costs of medical record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medical records not yet poised to provide data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: Lab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93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impact of incrementally ad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A codes for diagn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values on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mber of diagnosis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documentation (ICD-9-CM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tal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fficult to obtain clin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ost-effective enhancements to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Reported i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e M, Jordan HS, Elixhauser A, et al. Enhancement of claims data to improve risk adjustment of hospital mortality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7; 267(1):71-7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rdan HS, Pine M, Elixhauser A, et al. Cost-effective enhancement of claims data to improve comparisons of patient safety.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ournal of Patient 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7; 3(2) 82-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y DR, Pine M, Jordan HS, et al. Combining administrative and clinical data to stratify surgical risk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nals of Surg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7; 246(5): 875-8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e M, Jordan HS, Elixhauser A, et al. Modifying claims data to improve risk-adjustment of inpatient mortality rates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dical Decision Ma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orthco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rce of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8 Pennsylvania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ims data from July 2000 to Jun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ing Atlas clin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 day recorded for each data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 and California claim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 which conditions were comorbidities versus co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risk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cators Stud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12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A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G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nio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ebrovascular acc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hemorrh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6240" y="1676160"/>
            <a:ext cx="4487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operativ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fety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embolism/deep vein thromb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ologic/metabolic abnorm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y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Used in Incrementally More Complex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28600" y="1476360"/>
          <a:ext cx="8686800" cy="5029200"/>
        </p:xfrm>
        <a:graphic>
          <a:graphicData uri="http://schemas.openxmlformats.org/drawingml/2006/table">
            <a:tbl>
              <a:tblPr/>
              <a:tblGrid>
                <a:gridCol w="1581120"/>
                <a:gridCol w="71056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Data El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, sex, principal diagnosis, up to 8 secondary diagnoses only infrequently acquired during hospitalization, selected surgical proced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-8 + secondary diagnoses not included in ADM-8, when clinical data establish that they were present on admi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POA-8 with up to 24 secondary diagno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I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24 + secondary diagnoses not included in POA-24 because they were underreported in administrative database but were established as present on admission in clinical data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Used in Incrementally More Complex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28600" y="1676520"/>
          <a:ext cx="8610480" cy="4633920"/>
        </p:xfrm>
        <a:graphic>
          <a:graphicData uri="http://schemas.openxmlformats.org/drawingml/2006/table">
            <a:tbl>
              <a:tblPr/>
              <a:tblGrid>
                <a:gridCol w="1855800"/>
                <a:gridCol w="67546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Data El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24 + numerical laboratory data on admission (e.g., creatinine, white blood cell count) generally available in electronic 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-I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+ secondary diagnoses not included in POA-24 because they were underreported in administrative database but were established as present on admission in clinical data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+ vital signs and lab data not in LAB (e.g., blood culture results) + key clinical findings abstracted from medical records (e.g., immunocompromised) + composite clinical scores (i.e., ASA Classifi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erical Lab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47560" y="3276360"/>
            <a:ext cx="32763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(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T 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 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3276360"/>
            <a:ext cx="3921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OT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elets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bumin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in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K-MB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1447920"/>
            <a:ext cx="7925040" cy="21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22 lab tests entered at least on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14 of these tests entered four or more 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– C stat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-statistic for  pure administrative model = 0.7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POA = 0.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lab data = 0.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clinical model = 0.8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st increase in c-statistic is for POA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biggest increase when we add laboratory values on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clinical model adds little additional discriminative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safety models showed a similar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– Hospital B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f how hospital rankings would vary depending on amount of clinical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line: With less clinical information, more hospitals will be misassigned to “high quality” or “low qual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aboratory information, about 18% of hospitals are misassigned, compared to full clinic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also improve ICD coding, only 5% of hospitals are misassigned, compared to full clinic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Program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520" y="1590480"/>
            <a:ext cx="649476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clinical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adverse events and improve patien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patient-centere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nnecessary costs in the delivery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 investments in effective structural components o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erformance results transparent and comprehen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mpower consumers to make value-based decisions about their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courage hospitals and clinicians to improve quality of c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qual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tal Signs and Other Clinical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vital signs entered four or mor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 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pressure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ions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ction fraction and culture results entered two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e scores entered four or mor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 classification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sgow Coma Scor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tracted Key Clinical F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9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 clinical findings entered at least on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hree findings entered more than two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 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e malnutrition (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osuppressed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of these clinical findings have corresponding ICD-9-CM codes (e.g., coma, malnutr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– Cost-Effectiv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POA and lab data has the smallest incremental costs for the improvement in clinical specificity = Most cost-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$5 per hospital correctly assigned, compared to over $80 per correct assignment for full clinic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Analy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data can be improved at relatively low cost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POA mod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numerical lab data on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f Study Result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Clinical Data to Statewide Administrativ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data capacities for statewide data organizations participating in HC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s to add or link hospital clinical information to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Septem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d for completion Sept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s of 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45640" y="205704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easibility of linking clinical and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reproducible appr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stage for integrating clinical and administrative data streams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fic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93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select clinical data elements to add to administr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clinical data from electronic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ally transfer data from hospitals to the data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data into a multi-hospital database and conduct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the reliability of POA coding through algorithms applied to discharg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e with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 in peer-to-peer learning, information sharing,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report that provides 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icious addition of a few clinical data elements can significantly improve ability to do quality assessment using administr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s on 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tentially) vital 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ICD-9-CM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 of POA coding needs to be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s will jumpstart the enhancement of administrative data by statewide data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 Outpatient Healthcare- Associated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l Bazell, MD,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Hostetler, 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- Center for Medicar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tension of IPPS HAC Program to Hospital Outpatient (HOP) Ca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391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CMS’ activities to drive quality improvement, value, and patient safety in the HOP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 encounters cover a large number and broad array of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in services from hospital inpatient to outpatient signals likelihood that healthcare-associated conditions will increase in HOP set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 services often precede inpati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es VBP Mean to C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ing Medicare from a passive payer to an active purchaser of higher quality, more efficient 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nd initiatives for promoting better quality, while avoiding unnecessa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:  measurement, payment incentives, public reporting, conditions of participation, coverage policy, QIO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ves:  pay for reporting, pay for performance, gainsharing, competitive bidding, bundled payment, coverage decisions, direct provide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abora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Disease Control (CD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cy for Healthcare Research and Quality (AHR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Uniform Billing Committee (NUB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patient Prospective Payment System (OPPS) Infra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S payment based on relative costs from hospital claims for services assigned to Ambulatory Payment Classification (APC)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ct payment rate for each A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Cs include HCPCS codes for items or services that are clinically similar and that have comparable resour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s often receive multiple APC payments for a single HOP en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fferential payment adjustment for disease severity; more complex patients may require additional services, which may be separately p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 on Admission Indic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S currently lacks the infrastructure to identify and collect POA indicato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approach could identify services for conditions present on hospital arrival by HCPCS modif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ddress current ICD-9-CM POA reporting guidelines that consider conditions that occur during outpatient encounters P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conditions present on hospital arrival for HOP-HACs should be administratively manageable for hospita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Infrastructure Conc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may be seen in multiple departments or clinics during an outpatient encount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may be seen in multiple settings (hospital and nonhospital) over many  encou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nters generally of shor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r versus patient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 Adjustment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-specific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flat payment rate reduction or nonpayment for some (HOP-HAC related) or all services provided during HOP en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ed rate could be derived from analysis of OPPS claims with and without HOP-HACs, analysis of IPPS DRG payment relationships, rates paid to hospitals that do not meet quality reporting standards, or other method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s could identify non-covered charges for HOP-HAC relat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s would not collect deductibles and copayments for HOP-HAC related servic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 Adjustment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specific approaches (rate-ba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establishing hospital rate of healthcare-associated conditions and define a benchmark or best practice rate above which a hospital payment adjustment would be made for some or all services in a time perio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not require hospitals to specifically identify HOP-HAC relat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episode-based payment across the continuum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 Outpatient Healthcare- Associated Cond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ndidate Healthcare-Associated Conditions (HACs) for the Hospital Outpatient (HOP) Set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3886200"/>
            <a:ext cx="6324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ila H. Roman, MD,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-  Center for Medicar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1536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itial Criteria for Possible Candidate HOP-HA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IPPS H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Conditions that occur during and result from care provided in a single HOP en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Conditions that do not require longitudinal examination of a beneficiary’s healthcare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POA/disease severity would have little influence on occurrence of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Provider attribution cl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itial Candidate HOP-HA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left in during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em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in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s and Trauma – fractures, dislocations, intracranial injuries, crushing injuries, and b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onditions identified by ICD-9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ther HOP-HACs for Conside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lated to medication administration/medication errors in the HOP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lated to HOP surgery or othe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s related to HOP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lated to HOP patient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 </dc:creator>
  <dc:description/>
  <dc:language>en-US</dc:language>
  <cp:lastModifiedBy>g29r</cp:lastModifiedBy>
  <dcterms:modified xsi:type="dcterms:W3CDTF">2008-12-11T18:22:54Z</dcterms:modified>
  <cp:revision>29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9186640</vt:r8>
  </property>
  <property fmtid="{D5CDD505-2E9C-101B-9397-08002B2CF9AE}" pid="3" name="_AuthorEmail">
    <vt:lpwstr>Lisa.Grabert@cms.hhs.gov</vt:lpwstr>
  </property>
  <property fmtid="{D5CDD505-2E9C-101B-9397-08002B2CF9AE}" pid="4" name="_AuthorEmailDisplayName">
    <vt:lpwstr>Grabert, Lisa (CMS/CMM)</vt:lpwstr>
  </property>
  <property fmtid="{D5CDD505-2E9C-101B-9397-08002B2CF9AE}" pid="5" name="_EmailSubject">
    <vt:lpwstr>Round Bullets</vt:lpwstr>
  </property>
  <property fmtid="{D5CDD505-2E9C-101B-9397-08002B2CF9AE}" pid="6" name="_NewReviewCycle">
    <vt:lpwstr/>
  </property>
</Properties>
</file>