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A2CAC6-4C93-4792-A2D5-7AE93BEA6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91784E-67B7-4108-B0D7-6E269653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BB00AF-FACD-46C3-82F6-8A1EC8285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65770F-229B-4803-8B17-86DF1C254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CE185D-8DD2-4534-944A-BFFDA5292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CC0580-2E0E-4DBA-A0C5-656F9F130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7AB496-B823-4718-8C3B-73E29B5E3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78A-A5A4-4884-B301-5E60C187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4A1-A909-4512-BF87-C641EDA1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643-C133-4CE4-979C-55558B96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AC5-1B13-459E-94B1-EBC05EB8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5A1B-F494-4305-9B18-B782F0F9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9AC-E9B0-4574-BE10-DD815076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DAB-1990-4E07-B6BC-24EA60BC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BC1-2127-47DC-9EE2-48BA82E2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98A-46ED-4159-8FA9-00D615F0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774-7CDB-4E64-9505-41977809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F7B-5E7C-4B05-90B6-9CC3AD72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5A3-DA17-4E86-9F97-9327900D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D047-30B9-4DB5-873C-E754824B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n P. Roddy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ber, Health Policy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iety for Vascular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ociate Professor of Surgery, Albany Medical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217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lateral (recommen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s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d by endograft type, patient anatomy, vessel condi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gical 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2674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1320" y="338040"/>
            <a:ext cx="2286000" cy="1643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228600"/>
            <a:ext cx="5181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tain bilateral guidewir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203184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6668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main body of stent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91320" y="36338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3886200"/>
            <a:ext cx="457200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sheath on contralateral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se wire to locate g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791320" y="52340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5627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additional wire through contralateral sheath next to gate wire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1320" y="27936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280"/>
            <a:ext cx="518184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sensor over guidewire through contralateral sheath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alibrate sensor and take first readi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286000" cy="1555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981080"/>
            <a:ext cx="51055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Remove contralateral sheath over sensor catheter and gate wire, maintaining sensor position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troduce contralateral graft limb (or limb delivery sheath) over gate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1320" y="3529080"/>
            <a:ext cx="2334960" cy="1576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3886200"/>
            <a:ext cx="5105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eploy contralateral limb and fix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Take final sensor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2361960" cy="159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5530680"/>
            <a:ext cx="5334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onfirm sensor position, release sensor and remove sensor delivery c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Documentatio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 includes in dic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 performed in operating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external electronic monitoring equipment to measure pressure/verify appropriate placement of g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pecific ICD-9-CM codes for placement of a pressure measurement sensor and monitoring intra-arterial pressure during endovascular repair of an aneurysm creates ongoing data iss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track procedures clearly in the encod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differentiate EVAR procedures that use pressure measurement sen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review and analyze data specific to these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ortic Aneury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when a weak area of the aorta expands or bul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dominal Aortic Aneurysm (A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oracic Aortic Aneurysm (T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65,000 aneurysms repaired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trea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vascular aneurysm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27950" t="0" r="0" b="0"/>
          <a:stretch/>
        </p:blipFill>
        <p:spPr>
          <a:xfrm>
            <a:off x="5607000" y="1905120"/>
            <a:ext cx="3156120" cy="35049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vascular Aneurysm Repair (EV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R accounts for the majority of aneurysm repair surg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complications / morbidity vs. open surgical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VAR co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l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f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12501" t="0" r="6249" b="0"/>
          <a:stretch/>
        </p:blipFill>
        <p:spPr>
          <a:xfrm>
            <a:off x="4495680" y="2133720"/>
            <a:ext cx="434340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98120" y="510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04800" y="960480"/>
            <a:ext cx="212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6280" y="1473120"/>
          <a:ext cx="8439120" cy="820800"/>
        </p:xfrm>
        <a:graphic>
          <a:graphicData uri="http://schemas.openxmlformats.org/drawingml/2006/table">
            <a:tbl>
              <a:tblPr/>
              <a:tblGrid>
                <a:gridCol w="2084400"/>
                <a:gridCol w="2084400"/>
                <a:gridCol w="2084400"/>
                <a:gridCol w="2185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dequate Se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lateral Vess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lodged or Torn Li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bric Wee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leaks –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9588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 courtesy of T. Ohki, M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229600" cy="39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raining 30" descr=""/>
          <p:cNvPicPr/>
          <p:nvPr/>
        </p:nvPicPr>
        <p:blipFill>
          <a:blip r:embed="rId2"/>
          <a:srcRect l="24143" t="0" r="24143" b="0"/>
          <a:stretch/>
        </p:blipFill>
        <p:spPr>
          <a:xfrm>
            <a:off x="1231920" y="2133720"/>
            <a:ext cx="228600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31760"/>
            <a:ext cx="834876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reless pressure sensors were recently introduced to help identify successful aneurysm exclusion following endovascular aneurysm repair (EVAR).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072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0488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8760" y="4708440"/>
            <a:ext cx="318960" cy="216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284560" y="5105160"/>
            <a:ext cx="318960" cy="21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828800"/>
            <a:ext cx="16160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oxim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920" y="4305240"/>
            <a:ext cx="1401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t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19520" y="5334120"/>
            <a:ext cx="380880" cy="3045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5715000"/>
            <a:ext cx="204804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Entry site of Cath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600200"/>
            <a:ext cx="4267080" cy="506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leared by FDA in November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iography/CTA provide images which are not definitive about the existence, location or type of 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afety – radiation, contrast tox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onvenience (every 6 mon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asuring sac pressure provides evidence for successful aneurysm exclusion which should translate into long-term graft stabilit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eharne, et al.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as et al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4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ra-arterial pressure sensor and electronic monitoring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112920" cy="206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7920" y="2209680"/>
            <a:ext cx="2386080" cy="2440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364440" y="3352680"/>
            <a:ext cx="2093760" cy="31244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Intra-Sac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-arterial pressure sensors are indicated for measuring intra-sac pressure during endovascular abdominal aortic aneurysm (AAA) repair or thoracic aortic aneurysm (TAA) re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ure readings taken during the EVAR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ensor 11C013526 Implant(rev1)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91520" cy="554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25760" y="1812960"/>
            <a:ext cx="28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Arial"/>
              </a:rPr>
              <a:t>Pre Exclusion=70mmH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re Balloon=17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Post Balloon=11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2960" y="2147760"/>
            <a:ext cx="1440" cy="6717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814480"/>
            <a:ext cx="1440" cy="766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971800"/>
            <a:ext cx="0" cy="735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 Select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, EVAR patients with higher risk anatomy or concern after deployment of the main body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etter data is collected, a broader indication may be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3:12:37Z</dcterms:created>
  <dc:creator>Pierre Gobin</dc:creator>
  <dc:description/>
  <dc:language>en-US</dc:language>
  <cp:lastModifiedBy>Amy</cp:lastModifiedBy>
  <dcterms:modified xsi:type="dcterms:W3CDTF">2007-10-04T15:08:07Z</dcterms:modified>
  <cp:revision>361</cp:revision>
  <dc:subject/>
  <dc:title>Mechanical Revascularization and Hypothermia: Potential for the Treatment of Ischemic Stro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4667958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