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D6C58-69EF-47F0-9243-458143C12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B002A-8DED-4C41-8BC5-8D2C86FA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64773-54E6-4665-A57F-B94B6E740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FB040-8D62-499D-954C-2437330FF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35BBF-D8B1-4F0A-AF09-43D85BED1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FA279-953D-450D-91DB-B338EC7B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6F989-083E-45C3-A870-FA54D3674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152EE-E602-4077-95C4-DFD73F62C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16E8-B570-4202-BBBB-B3DFCD379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0A9C-2241-4CCA-A5D3-30156A66F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C094-0C82-4102-B1E2-4E1FBC0B4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8773-8317-41ED-99C2-DF9D45D54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D368-C3B1-4062-A9DE-2B6017265F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AcuteInpatientPPS/FFD/itemdetail.asp?filterType=none&amp;filterByDID=-99&amp;sortByDID=2&amp;sortOrder=ascending&amp;itemID=CMS1201740&amp;intNumPerPage=10"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ms.hhs.gov/quarterlyproviderupdates/downloads/cms1533fc.pdf" TargetMode="External"/><Relationship Id="rId2" Type="http://schemas.openxmlformats.org/officeDocument/2006/relationships/hyperlink" Target="http://www.cms.hhs.gov/MLNMattersArticles/downloads/MM5499.pdf" TargetMode="External"/><Relationship Id="rId3" Type="http://schemas.openxmlformats.org/officeDocument/2006/relationships/hyperlink" Target="http://www.cdc.gov/nchs/datawh/ftpserv/ftpicd9/ftpicd9.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01(c) of Deficit Reduction Act  (DRA) requires Secretary to select at least two conditions by 10/1/07 that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igh cost or high volume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ed to a higher paying DRG when present as a secondary diagn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asonably preventable through application of evidence base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23E9E3-ED5A-4AD1-AC20-AFE0548BC9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K3 segment read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AYNUW1YZ” - Represents claim with 1 principal and 5 secondary diagnoses (6 PO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OA (Y) and 5 secondary POAs 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A (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if POA (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undetermined (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 from reporting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 (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ndicates the end of the POA data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9B6784-9743-415C-907E-F23EB2713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ospital-acquired conditions (HACs) for 10/1/08 imple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object left in surger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8.4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air embolism</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1 - M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blood incompatibili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6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eter associated urinary tract infecti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6.64 &amp; 599.0 – CC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F3A73EC-714C-4DD6-AA26-BC6361F3C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ACs for 10/1/08 implementation - continued</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ulcer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0, 707.01, &amp; 707.09 – CC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2 – 707.07 - MCC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atheter associated infec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31- CC</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site infection – Mediastinitis after CABG</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2 - MCC &amp; 36.10 – 36.19</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 – specific trauma cod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AcuteInpatientPPS/FFD/itemdetail.asp?filterType=none&amp;filterByDID=-99&amp;sortByDID=2&amp;sortOrder=ascending&amp;itemID=CMS1201740&amp;intNumPerPage=10</a:t>
            </a:r>
            <a:r>
              <a:rPr b="0" lang="en-US" sz="2400" spc="-1" strike="noStrike">
                <a:solidFill>
                  <a:srgbClr val="000000"/>
                </a:solidFill>
                <a:latin typeface="Arial"/>
              </a:rPr>
              <a:t> - MCC &amp; CC</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62EA57-9C06-4271-9D2B-9C0D783BF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dditional HAC possibilities for 10/1/08</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or associated pneumonia – working to create new cod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hylococcus aureus septicemia – need to clarify instances when preventable</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8.11 + 995.91, 998.59, 999.3 - MCCs</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vein thrombosis (DVT) and pulmonary embolism (PE) – need to identify instances when preventable, such as after certain elective surgeries</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T: 453.40 – 453.42 – CC</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415.10 &amp; 415.19 - MCC</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B3A5B1-A983-48FB-ACCA-78CBCC649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cited input from the industry on better defining thes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olicited additional areas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examine other area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 Difficile-Associated Disease (CDAD) 008.45 – CC.  Lack of prevention guidel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icillin-Resistant Staphyloccocus Aureus (MR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09.0 – not a 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discuss further in the IPPS proposed rule for FY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F1D372-0F4C-4D8C-91B5-0B3E7A3959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S final rule - </a:t>
            </a:r>
            <a:r>
              <a:rPr b="0" lang="en-US" sz="2800" spc="-1" strike="noStrike" u="sng">
                <a:solidFill>
                  <a:srgbClr val="009999"/>
                </a:solidFill>
                <a:uFillTx/>
                <a:latin typeface="Arial"/>
                <a:hlinkClick r:id="rId1"/>
              </a:rPr>
              <a:t>http://www.cms.hhs.gov/quarterlyproviderupdates/downloads/cms1533fc.pd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conditions – page 47200</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N Matters – POA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ms.hhs.gov/MLNMattersArticles/downloads/MM5499.pd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guidelines- ICD-9CM Official Guidelines, p. 9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www.cdc.gov/nchs/datawh/ftpserv/ftpicd9/ftpicd9.ht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3A241AB-C417-4F6E-8BBE-4C6EA0913C1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10/1/08, the conditions will not be assigned to higher paying DRG unless present on admission (PO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spital-acquired condition is only MCC/CC then HAC will not lead to assignment to MCC/CC sever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secondary conditions reported which are MCC/CCs, then case would be assigned to higher severity le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harges on or after 10/1/07 -hospitals begin submitting POA information on secondary diagn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CAH, psych and rehab hospit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only to acute IPPS hospit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E99380-C4A5-43CA-B315-103486624A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porting POA for discharges on or after 10/1/07.  No penalty at fir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1/1/08 claims will be processed without POA; however, will get remark code in remittance advice noting omission of PO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4/1/08 – claim returned if POA info is mis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B86852-6245-44B8-8AF5-140B63DCBC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ata entry (DDE) screens cannot be updated to include this information until January 1,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hospitals submitting claims via DDE will begin submitting POA indicators on 1/1/0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B12EC8E-096A-47BE-910C-482A38EAB2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submitted electronically via 837, 4010A1 format shall use </a:t>
            </a:r>
            <a:r>
              <a:rPr b="1" lang="en-US" sz="3200" spc="-1" strike="noStrike">
                <a:solidFill>
                  <a:srgbClr val="000000"/>
                </a:solidFill>
                <a:latin typeface="Arial"/>
              </a:rPr>
              <a:t>segment K3 in the 2300 loop, data element K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lement shall contain letters “POA”, followed by a single POA indicator for every diagnosis on the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 for principal diagnosis should be first indicator after “PO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31C15E1-4E44-408D-A7B3-8D1AA03ED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diagnoses will follow, if appli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POA indicator for principal and, if applicable, other diagnoses shall be followed by the letter “Z” to indicate the end of POA indicators for principal and, if applicable, other diagno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D52020B-508B-49F2-BC3E-6F8F87688A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ndicators should be reported in the same sequence as are the principal and secondary diagn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s should be included for all diagnoses reported on the claim, even though CMS currently only processes the first 9 diagn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96E8EE-91A2-4DC5-A19B-6DA04F519C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on Admission Indicator</a:t>
            </a:r>
            <a:br>
              <a:rPr sz="4000"/>
            </a:br>
            <a:r>
              <a:rPr b="0" lang="en-US" sz="4000" spc="-1" strike="noStrike">
                <a:solidFill>
                  <a:srgbClr val="000000"/>
                </a:solidFill>
                <a:latin typeface="Arial"/>
              </a:rPr>
              <a:t>Paper Claim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10/1/07 hospitals reporting on UB-04 paper claims will also report POA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s placed in the eighth digit of FL 67, Principal diagnosis and the eighth digit of each Secondary diagnosis in fields FL 67 A-Q</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67A358-C273-4EFA-A32D-9ECC257C9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Yes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o (not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 Unknown (documentation is insufficient to determine if condition is present at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Clinically undetermined (provider is unable to clinically determine whether condition was present at time of inpatient admission or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Unreported/Not used – Exempt from POA reporting (This code is the equivalent of a blank on the UB-04, but blanks are not desirable when submitting data via the 4010A1.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6A6333B-B156-496C-A8D6-19FF86ACA5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55:57Z</dcterms:created>
  <dc:creator>Pat Brooks</dc:creator>
  <dc:description/>
  <dc:language>en-US</dc:language>
  <cp:lastModifiedBy>MadyHue</cp:lastModifiedBy>
  <dcterms:modified xsi:type="dcterms:W3CDTF">2007-09-26T20:29:50Z</dcterms:modified>
  <cp:revision>28</cp:revision>
  <dc:subject/>
  <dc:title>MS-DRGs and other IPP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647295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