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2.png" ContentType="image/png"/>
  <Override PartName="/ppt/media/image20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D212-6E5E-45CA-99F3-869EF555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6090-EDAB-4059-9BE1-1A1D81A1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0588-FFFD-4ECB-BF58-B9407347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2759-C12C-41DF-A506-4F6624B6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163D-AFB4-467C-8F45-DDE08C49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516D-2F54-4081-A956-702DAAB0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CB62-8AB0-45B2-8B6F-9DB83116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8743-2A2C-4069-A87E-8A3F89EE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EBED-757A-4D32-A7EC-651F08CF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3B3B-8F75-447B-83AA-58957AEC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80CF-4099-44DF-B067-F9FF5209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3A16-7670-4977-B33A-69BE4A65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733B-1493-4FF9-8DAA-0FBF05C4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F974-DA10-4048-9904-A435617A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B24D-971C-40B0-8FAC-8025FEC9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8C13-F46A-4EF2-9C1F-7214528A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77B4-632F-4E74-B073-E1FB5715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2C57-1F37-4A35-91A0-788D9A4E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E457-6BA6-4374-8FB3-57285247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5E24-E8E9-4342-89C1-4CBBC1BA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8B66-02C1-4BED-805F-10D347B9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265F-47D8-488C-8B88-DE51CDC6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A45A-1113-4A4B-9F99-D3BD2CC2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51F6-CCCD-47A0-A857-7FE899A9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3429-7CE3-4552-9F55-E451AAADE7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54A1-0444-4C2D-9949-863BCDF8FB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CD-9-CM Coordination and Maintenance Committee</a:t>
            </a:r>
            <a:br>
              <a:rPr sz="44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nters for Medicare &amp; Medicaid Services</a:t>
            </a:r>
            <a:br>
              <a:rPr sz="28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-ventricular Replacement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tember 27,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rtley P. Griffith, M.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ief Cardiac Surgery Director, Heart and Lung Transplant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versity of Maryland Medical Center (UMM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20231" r="0" b="0"/>
          <a:stretch/>
        </p:blipFill>
        <p:spPr>
          <a:xfrm>
            <a:off x="1676520" y="3446640"/>
            <a:ext cx="5181480" cy="3117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505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8242"/>
                </a:solidFill>
                <a:latin typeface="Arial"/>
              </a:rPr>
              <a:t>1985-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62920" y="62485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Dr. Griffit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210200" cy="56354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842160" y="6132600"/>
            <a:ext cx="207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73480" y="469800"/>
            <a:ext cx="4395600" cy="5916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918480" y="5904000"/>
            <a:ext cx="199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666880" y="685800"/>
            <a:ext cx="3865680" cy="54165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781680" y="6324480"/>
            <a:ext cx="214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392200" y="341280"/>
            <a:ext cx="4359600" cy="61754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918480" y="6361200"/>
            <a:ext cx="199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384960" y="6284880"/>
            <a:ext cx="24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Dr. Arusogl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699160" y="6056280"/>
            <a:ext cx="283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Dr. Arusogl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anted CardioWest TAH-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4459320" cy="50626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375680" y="6132600"/>
            <a:ext cx="146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75680" y="6208560"/>
            <a:ext cx="131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00800" y="630720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entricular Assist Device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(VAD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38862" t="1469" r="1709" b="4415"/>
          <a:stretch/>
        </p:blipFill>
        <p:spPr>
          <a:xfrm>
            <a:off x="533520" y="1600200"/>
            <a:ext cx="1981080" cy="4876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rcRect l="12859" t="1512" r="15535" b="1512"/>
          <a:stretch/>
        </p:blipFill>
        <p:spPr>
          <a:xfrm>
            <a:off x="2743200" y="1600200"/>
            <a:ext cx="2971800" cy="4876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rcRect l="32183" t="1512" r="1609" b="1512"/>
          <a:stretch/>
        </p:blipFill>
        <p:spPr>
          <a:xfrm>
            <a:off x="5943600" y="1600200"/>
            <a:ext cx="2743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562720" cy="5268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620120" y="601992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presentative Resected He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197000" y="1176480"/>
            <a:ext cx="6918480" cy="5271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90080" y="6002280"/>
            <a:ext cx="853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courtes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r. Cope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4341960" cy="5483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08660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4003560" cy="51246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613560" y="6132600"/>
            <a:ext cx="1539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19920" y="6002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6883560" cy="4562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010280" y="6172200"/>
            <a:ext cx="192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4029120" cy="5694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918480" y="6056280"/>
            <a:ext cx="199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20:30:28Z</dcterms:created>
  <dc:creator>cmarcot</dc:creator>
  <dc:description/>
  <dc:language>en-US</dc:language>
  <cp:lastModifiedBy>cmarcot</cp:lastModifiedBy>
  <dcterms:modified xsi:type="dcterms:W3CDTF">2007-10-05T18:55:02Z</dcterms:modified>
  <cp:revision>10</cp:revision>
  <dc:subject/>
  <dc:title>Slide 1</dc:title>
</cp:coreProperties>
</file>