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48A-5D3C-4881-93CE-727B6449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34E-C03B-4ED5-AE17-2C9F0B24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83C-0BBB-4033-A2E7-6334F274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2D1-3897-43DB-B348-146AE8DF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D37C-472F-482E-A29D-391BC6A6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F88-4FAF-4368-B47B-38653A11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1C79-9ACF-4792-ADAA-FC8E338F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F99A-37F2-48B6-99F4-0E85AA2E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21D-75DC-48CA-99BF-5CADA61E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9ED9-45C9-4E07-9637-65986408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194E-2EDD-4553-BB2E-A1DC4072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BDF-EA39-4A9F-9622-C341F301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1C02-1C63-4C02-A435-ABE4C722E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9ProviderDiagnosticCodes/06_codes.asp#TopOfPage" TargetMode="External"/><Relationship Id="rId3" Type="http://schemas.openxmlformats.org/officeDocument/2006/relationships/hyperlink" Target="http://www.cms.hhs.gov/ICD10/01m_2009_ICD10PCS.asp#TopOfPage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cdc.gov/nchs/about/otheract/icd9/icd10cm.htm" TargetMode="External"/><Relationship Id="rId2" Type="http://schemas.openxmlformats.org/officeDocument/2006/relationships/hyperlink" Target="http://www.cms.hhs.gov/ICD10/02m_2009_ICD_10_CM.asp#TopOfPage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2m_2009_ICD_10_CM.asp#TopOfPag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CD-10 General Equivalence Mappings (GEM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give all plausible translation alternatives for the complete meaning of the code being looked up (source system c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 instruction, index entries, guidelines, and applicable Coding Clinic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4038480"/>
          <a:ext cx="7694640" cy="2187360"/>
        </p:xfrm>
        <a:graphic>
          <a:graphicData uri="http://schemas.openxmlformats.org/drawingml/2006/table">
            <a:tbl>
              <a:tblPr/>
              <a:tblGrid>
                <a:gridCol w="2766960"/>
                <a:gridCol w="2443320"/>
                <a:gridCol w="248436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only one alternative in a GEM, we can say we have a “one-to-one”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necessarily mean the codes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72031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placed midcervical fracture of right femur, initial encounter for closed fra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82002 Fracture of midcervical section of femur, clos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ternatives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multiple translation alternatives for a source system code, all of which are equally plau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meaning of ‘Burn’ in I-9 includes bo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burns (translates to ‘Burn’ in I-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burns (translates to ‘Corrosion’ in I-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657240"/>
            <a:ext cx="8153640" cy="24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42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sters with epidermal loss due to burn (second degree) of abdominal w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A Bur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22xD Burn of second degree of abdominal wall, subsequent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A Corrosion of second degree of abdominal wall, initial encou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2162xD Corrosion of second degree of abdominal wall, subsequen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luster: more than one I-9 code is required to equal a complete translation of one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3048120"/>
            <a:ext cx="8001000" cy="30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134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2 diabetes mellitus with severe nonproliferative diabetic retinopathy with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0 Diabetes with ophthalmic manifestations, type II or unspecified type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6 Severe nonproliferative diabetic retinopath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207 Diabetic macular ed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Clu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10 cluster: more than one I-10 code is required to equal a complete translation of one I-9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terior Resection Of Rectum With Synchronous Colosto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10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TP0ZZ Resection of Rectum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4ZZ Resection of Rectum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7ZZ Resection of Rectum, Via Natural or Artificial Op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TP8ZZ Resection of Rectum, Via Natural or Artificial Opening Endoscop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D1N0Z4 Bypass Sigmoid Colon to Cutaneous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4Z4 Bypass Sigmoid Colon to Cutaneous, Percutaneous Endoscopic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D1N8Z4 Bypass Sigmoid Colon to Cutaneous, Via Natural or Artificial Opening Endosc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414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 includes the complete meaning of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s to a single comparably specific alternative in the ICD-9-CM to ICD-10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440" y="4114440"/>
            <a:ext cx="8001000" cy="201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14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onary atherosclerosis of native coronary ar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2510 Atherosclerotic heart disease of native coronary artery without angina pectori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CM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I25.110 contains both underlying cause and acute exacer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ystem code 414.01 is part of an I-9 cluster in the ICD-10-CM to ICD-9-CM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120" y="4038120"/>
            <a:ext cx="8077320" cy="216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251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herosclerotic heart disease of native coronary artery with unstable angina pecto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401 Coronary atherosclerosis of native coronary arte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11 Intermediate coronary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9-CM to ICD-10-PCS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86.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-9 does not specify the anatomic site, all PCS body parts are plausible translation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520" y="2895480"/>
            <a:ext cx="85345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65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ture Of Skin And Subcutaneous Tissue Of Other 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0ZZ Repair Face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13ZZ Repair Face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0ZZ Repair An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43ZZ Repair An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0ZZ Repair Posterior Ne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53ZZ Repair Posterior Ne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0ZZ Repair Chest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63ZZ Repair Chest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0ZZ Repair Back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73ZZ Repair Back Subcutaneous Tissue and Fascia, Percutaneous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0ZZ Repair Abdomen Subcutaneous Tissue and Fascia, Open 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JQ83ZZ Repair Abdomen Subcutaneous Tissue and Fascia, Percutaneou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 composed of?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CD-10-PCS to ICD-9-CM de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system code 0JQ60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precise PCS code specifies body part an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non-specific I-9 codes are plausible translation alternatives for the PCS root operation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0880" y="3429000"/>
            <a:ext cx="8305920" cy="26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JQ60Z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air Chest Subcutaneous Tissue and Fascia, Open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65 Other Suture Of Muscle Or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389 Other Plastic Operations On Fasc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8659 Suture Of Skin And Subcutaneous Tissue Of Other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M fil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system code on the lef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system code in the 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s o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85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1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2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62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9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500x2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959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9 and I-10 are different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s are the language of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Spanish and English, ICD-9 and ICD-10 are different 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-year generation gap between ICD-9-CM and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reflects the current understanding and practice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GEM files to a spreadsheet or database, and add code descriptions for rea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ubsequent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620 Poisoning by adrenal cortical steroi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580 Accidental poisoning by hormones and synthetic substitut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500x1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isoning by mineralocorticoids and their antagonists, accidental (unintentional), seque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90 Late effect of poisoning due to drug, medicinal or biological substan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292 Late effects of accidental poison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ding cod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code descriptions available on NCH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and ICD-10-PCS code descriptions available on CMS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9-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9ProviderDiagnosticCodes/06_code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ms.hhs.gov/ICD10/01m_2009_ICD10PCS.asp#TopOf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s 1=On, 0=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different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C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-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0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1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2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43 1011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0066 10111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2733ZZ 3609 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Approximate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1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translation is an approximate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of alternatives are considered an approximate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translation is an identical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in the procedure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mmon in the diagnosis G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320" y="3962160"/>
            <a:ext cx="708660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chole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0 Cholera due to vibrio cholera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 due to Vibrio cholerae 01, biovar el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1 Cholera due to vibrio cholerae el 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olera, unspec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019 Cholera, unspecif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No Map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2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re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re is at least one plausible translation for the source syste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240" y="3580920"/>
            <a:ext cx="6629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initial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ubsequent en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500x6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dosing of mineralocorticoids and their antagonists, seque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o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Combination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3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eans the complete translation of the source system code requires more than one target system code (cluster, aka combination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eans the complete translation of the source system code is satisfied by one of the target system code alternatives (single e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62520"/>
            <a:ext cx="79246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RG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sion of 2 or more Cervical Vertebral Joints with Internal Fixation Device, Anterior, Open Appro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02 Other Cervical Fusion, Anterior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62 Fusion Or Refusion Of 2-3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63 Fusion Or Refusion Of 4-8 Vertebra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51 Insertion Of Interbody Spinal Fusi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I rea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cenario and Choice list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s 4 and 5 of the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for organizing combination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 defines all the possible codes in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list organizes the codes into pick lists—one code from each list in a scenario is 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2520" y="3276720"/>
            <a:ext cx="49528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initial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ubsequent encou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00 Corneal foreign bod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14 Foreign body accidentally entering eye and adnex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00x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eign body in cornea, unspecified eye, seque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9085 Late effect of foreign body in ori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1523880"/>
            <a:ext cx="236232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A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962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D E8580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9090 1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1S E9292 10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ICD-9 based applications to native ICD-10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828440" y="2590920"/>
            <a:ext cx="5715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7 Respiratory infections &amp; inflammations w 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8 Respiratory infections &amp; inflammations w 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9 Respiratory infections &amp; inflammations w/o CC/MC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222 Salmon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065 Amebic lung abs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15* Respiratory tuberculosis (7 cod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02 Pneumonic plagu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12 Pulmonary tularem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221 Pulmonary anthra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10 Pulmonary mycobacterial infe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20 Pulmonary actinomyc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30 Pulmonary nocardio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481 Legionnaires' dis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5272 Syphilis of lung and bronch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12 Varicella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052 Measles complicated by pneumo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facilitate conversion projects of any size an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roject: I-9 based MS-DRGs being converted to I-10 based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um project: ICD-9-CM coding guidelines converted to ICD-10-CM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roject: Convert ICD-9-CM based diabetes case management document to 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version task: find and repl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pplications are composed of logical relationships between lists of ICD-9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involves “finding” ICD-9 lists embedded in applications and “replacing” the ICD-9 list with an ICD-10 equival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 of applicatio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al is to replicate, not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S-DRGs conversion uses this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ecause Different is G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ifferences were not significant, there would be no incentive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837720" y="2590920"/>
            <a:ext cx="7162920" cy="399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unspecified as to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9 Twin pregnancy, monoamniotic/monochorionic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9 Other twin pregnancy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deliver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9 Twin pregnancy, unspecified, unspecifie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10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win pregnancy, antepartum condition or compl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1 Twin pregnancy, unspecified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2 Twin pregnancy, unspecified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03 Twin pregnancy, unspecified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1 Twin pregnancy, monoamniotic/monochorionic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2 Twin pregnancy, monoamniotic/monochorionic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13 Twin pregnancy, monoamniotic/monochorionic, thir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1 Other twin pregnancy, first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2 Other twin pregnancy, second trimeste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O30093 Other twin pregnancy, third trimes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pplication-specific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CD-10 to ICD-9 mapping (aka crosswalk) that allows data submitted in ICD-10 to be processed using ICD-9 bas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CD-10 Reimbursement Mappings are an application-specific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terim measure while applications are being converted to a native ICD-10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General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raining material for ICD-10 coding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document improvement program for ICD-10 document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 the GEMs to understand the translation challenges in clinical/coding areas of particular interes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0880" y="3352320"/>
            <a:ext cx="838224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0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anterolateral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episode of care unspec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initial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10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cute myocardial infarction of other anterior wall, subsequent episode of c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2109 ST elevation (STEMI) myocardial infarction involving other coronary artery of anterior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ich GEM t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10 to I-9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of application logic containing lists of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-9 to I-10 G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nd forecasting of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I-10 to I-9 AND I-9 to I-10 G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conversion projects with access to clinical detail beyond the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I us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Replication vs.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essentially the same results as the current I-9 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s must be reviewed and finalized, this is not aut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-DRGs conversion is an example of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produce an I-10 based application that produces optimized results based on the increased detail in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more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s can be used for both replication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dc.gov/nchs/about/otheract/icd9/icd10cm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ms.hhs.gov/ICD10/02m_2009_ICD_10_CM.asp#TopOf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905120" y="3208320"/>
            <a:ext cx="5029200" cy="344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iagnosis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NCH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2m_2009_ICD_10_CM.asp#TopOf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981080" y="3700440"/>
            <a:ext cx="53341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38080" y="2641680"/>
            <a:ext cx="7467840" cy="388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can I fin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rocedure GEMs users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3165480"/>
            <a:ext cx="510516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GEMs, a single I-10 code can be translated to two or more alternative I-9 trans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09.89 Other specified rheumatic heart disea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s two plausible translation altern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contains one I-9 translation alternative chosen for reimbursement purposes, based on frequenc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3962160" cy="23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4572000"/>
            <a:ext cx="472428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447920"/>
            <a:ext cx="38862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098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 specified rheumatic heart dis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71 Rheumatic diseases of pulmonary valv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9899 Other rheumatic heart 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Ms vs. Reimbursement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urpose translation 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are designed to be interposed between data submitted using I-10 codes and legacy systems using I-9 codes, so data can continue to be processed without converting the legacy system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s a general translation 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Ms are a general purpose ICD-9/ICD-10 translation 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9 to ICD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e translation from ICD-10 to ICD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28600" y="3047760"/>
            <a:ext cx="8610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2440"/>
            <a:ext cx="7924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61920" y="1067400"/>
            <a:ext cx="5800680" cy="1517760"/>
            <a:chOff x="1861920" y="1067400"/>
            <a:chExt cx="5800680" cy="1517760"/>
          </a:xfrm>
        </p:grpSpPr>
        <p:sp>
          <p:nvSpPr>
            <p:cNvPr id="154" name=""/>
            <p:cNvSpPr/>
            <p:nvPr/>
          </p:nvSpPr>
          <p:spPr>
            <a:xfrm>
              <a:off x="1861920" y="1067400"/>
              <a:ext cx="5800680" cy="689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alth care claim (UB-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8400" y="1342800"/>
              <a:ext cx="1933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62440" y="1342800"/>
              <a:ext cx="2071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28880" y="2171160"/>
              <a:ext cx="3728880" cy="414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-10-based system (I-10 MS-DRG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62440" y="1757160"/>
              <a:ext cx="0" cy="41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869840" y="3124800"/>
            <a:ext cx="5802480" cy="3507840"/>
            <a:chOff x="1869840" y="3124800"/>
            <a:chExt cx="5802480" cy="3507840"/>
          </a:xfrm>
        </p:grpSpPr>
        <p:sp>
          <p:nvSpPr>
            <p:cNvPr id="160" name=""/>
            <p:cNvSpPr/>
            <p:nvPr/>
          </p:nvSpPr>
          <p:spPr>
            <a:xfrm>
              <a:off x="2004840" y="3124800"/>
              <a:ext cx="5667480" cy="673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74840" y="3393720"/>
              <a:ext cx="1889280" cy="2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38760" y="3393720"/>
              <a:ext cx="202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10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4480" y="6227280"/>
              <a:ext cx="3643200" cy="40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-9-based reimbursement sy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69840" y="5013360"/>
              <a:ext cx="5667480" cy="808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rted health care clai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74840" y="5417640"/>
              <a:ext cx="2428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Diagnosis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5417640"/>
              <a:ext cx="2563920" cy="2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-9 Procedure co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7484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412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3664080"/>
              <a:ext cx="72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62680" y="3664080"/>
              <a:ext cx="539640" cy="1753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4480" y="3934080"/>
              <a:ext cx="148428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diagnosis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38760" y="582264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8400" y="3933000"/>
              <a:ext cx="1484280" cy="80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of procedure reimbursement mapp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838080" y="2819520"/>
            <a:ext cx="769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ystem conversion vs. Cross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ranslation using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of the I-10 codes are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OHSPD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both MedPAR and OHSPD data sets come from hospital admission data, choosing between I-9 alternatives may reflect frequencies more characteristic of inpatient than outpatient data when the two di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mplications of preg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does not specify whether the patient delivered during the en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imbursement mapping must choose between I-9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patient hospital data, the I-9 codes specifying delivery are far more frequent, while in outpatient and physician data, one would expect the I-9 codes specifying antepartum encounter to do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520" y="4724280"/>
            <a:ext cx="8076960" cy="152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610 Failed medical induction of lab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0 Failed medical or unspecified induction of labor, unspecified as to episode of c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1 Failed medical or unspecified induction of labor, deliver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5913 Failed medical or unspecified induction of labor, antepartu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7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velopment of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-10 codes with an entry in the GEMs are inclu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-10 code is assigned to a single I-9 code or I-9 code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9 code cluster contains two or more I-9 codes that must be used in combination to attain the complete meaning of one I-10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29200" y="3657600"/>
            <a:ext cx="3809880" cy="2590920"/>
          </a:xfrm>
          <a:prstGeom prst="wedgeRectCallout">
            <a:avLst>
              <a:gd name="adj1" fmla="val -80833"/>
              <a:gd name="adj2" fmla="val 257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2733D6 Dilation of Coronary Artery, Four or More Sites, Bifurcation, with Intraluminal Devic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cutaneous Approa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code clus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66 [PTCA] or coronary atherect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3 Procedure on four or more vess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8 Insertion of four or more vascular s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6.06 Insertion of non-drug eluting coronary stent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00.44 Procedure on vessel bifur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676520"/>
            <a:ext cx="3809880" cy="1676160"/>
          </a:xfrm>
          <a:prstGeom prst="wedgeRectCallout">
            <a:avLst>
              <a:gd name="adj1" fmla="val -93375"/>
              <a:gd name="adj2" fmla="val 430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igned for reimburs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72.032G Displaced midcervical fracture of left femur, subsequent encounter for closed fracture with delayed h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assigned to this I-9 single c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820.02 Fracture of midcervical section of femur, clo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-9 code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ne ICD-10-PCS code contains a complete description of the procedure, and one ICD-10-CM code may contain both specification of the underlying disease and a current exacerbation or complication, multiple I-9 codes may be necessary to attain the same level of complet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% of I-10 codes are assigned to an “I-9 code clust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3886200"/>
            <a:ext cx="7848720" cy="22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10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 1 diabetes mellitus with diabetic cata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51 Diabetes with ophthalmic manifestations, type I [juvenile type], not stated as uncontroll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641 Diabetic cata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pping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files, not part of the GEM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ext files, a diagnosis code reimbursement mapping and a procedure code reimbursement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-character field for I-10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three, five-character fields for I-9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five, four-character fields for I-9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4191120"/>
            <a:ext cx="5715000" cy="2209680"/>
          </a:xfrm>
          <a:prstGeom prst="wedgeRectCallout">
            <a:avLst>
              <a:gd name="adj1" fmla="val 17805"/>
              <a:gd name="adj2" fmla="val -4870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66 0043 0048 3606 0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 code on the lef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 in the middle indicates the number of I-9 codes required 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-9 code or codes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4495320"/>
            <a:ext cx="45720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6 5 0066  0043  0048  3607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4Z 4 0066  0043  0048  360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6 5 0066  0043  0048  3606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DZ 4 0066  0043  0048  360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6 3 0066  0043  004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02733ZZ 2 0066  00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3124080"/>
            <a:ext cx="2514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029200"/>
            <a:ext cx="47242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419720"/>
            <a:ext cx="3962520" cy="2057400"/>
          </a:xfrm>
          <a:prstGeom prst="wedgeRectCallout">
            <a:avLst>
              <a:gd name="adj1" fmla="val 49398"/>
              <a:gd name="adj2" fmla="val -496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mbursement Mapping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I-9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72032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-9 cod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733D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0066 0043 0048 3606 00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2286000"/>
            <a:ext cx="2133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osswalk to legac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be interposed between data submitted using I-10 codes and legacy systems using I-9 codes, so data can continue to be processed using the legac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m measure while systems are being conv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486400" y="1905120"/>
            <a:ext cx="236232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A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B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C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D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E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F 1 V54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G 1 820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H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J 1 820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K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M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N 1 7338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P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Q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R 1 7338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72032S 1 90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use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purpose, the development, how to use and how to customize the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ix A contains technical fi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51055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find the Reimbursement Mappings?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nosis AND Procedure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38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-10 is much more speci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clinical detail has been added to ICD-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520" y="2438280"/>
            <a:ext cx="8153280" cy="368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0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racture of midcervical section of femur, clo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A 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1G 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A 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2G 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A 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3G 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A Nondisplaced midcervical fracture of righ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4G Nondisplaced midcervical fracture of righ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A Nondisplaced midcervical fracture of left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5G Nondisplaced midcervical fracture of left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A Nondisplaced midcervical fracture of unspecified femur, initial encounter for closed fractur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72036G Nondisplaced midcervical fracture of unspecified femur, subsequent encounter for closed fracture with delayed heal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For I-9 verbiage not in I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istinctions in I-9 have been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828800" y="2361960"/>
            <a:ext cx="6400800" cy="376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548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nococcal heart inf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te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end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myo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nococcal pericard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3 Gonococcal peri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4 Gonococcal endocarditi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09885 Other gonococcal heart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re are new I-10 categ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10 captures types of information not available anywhere in I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840" y="2057040"/>
            <a:ext cx="8458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0x6A Underdosing of mineralocorticoids and thei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1x6A Underdosing of loop [high-ceiling]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2x6A Underdosing of carbonic-anhydrase inhibitors, benzothiadiazides and other diuretic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3x6A Underdosing of electrolytic, caloric and water-balance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4x6A Underdosing of drugs affecting uric acid metabolism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5x6A Underdosing of appetite depressa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6x6A Underdosing of antidotes and chelating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7x6A Underdosing of analeptics and opioid receptor antagonis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8x6A Underdosing of diagnostic agent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06A Underdosing of unspecified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996A Underdosing of other drugs, medicaments and biological substanc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16A Underdosing of pertussis vaccine, including combinations with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26A Underdosing of mixed bacterial vaccines without a pertussis component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A96A Underdosing of other bacteri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16A Underdosing of smallpox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B96A Underdosing of other viral vaccines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16A Underdosing of immunoglobulin, initial encou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50Z96A Underdosing of other vaccines and biological substances, initial encou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Need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can be tric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express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I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than one I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mplete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, Bifurcation,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4 Procedure on vessel bifurc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27034Z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ilation of Coronary Artery, One Site with Drug-eluting Intraluminal Device, Percutaneous Appro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66 Percutaneous transluminal coronary angioplasty [PTCA] or coronary atherectom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0 Procedure on single vesse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45 Insertion of one vascular st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7 Insertion Of Drug-Eluting Coronary Artery Stents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GEMs?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ranslation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-directional code translation dictionary between ICD-9-CM and ICD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2666880"/>
            <a:ext cx="838188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nephropat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3 Diabetes with renal manifestations, type I [juvenile type],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 I9 clus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8381 Nephritis and nephropathy, not specified as acute or chronic, in diseases classified elsewher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diabetic chronic kidney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10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ype 1 diabetes mellitus with other diabetic kidney compl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om and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5041 Diabetes with renal manifestations, type I [juvenile type], not stated as uncontrolle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2:42:00Z</dcterms:created>
  <dc:creator>3M HIS rb</dc:creator>
  <dc:description/>
  <dc:language>en-US</dc:language>
  <cp:lastModifiedBy>3M HIS rb</cp:lastModifiedBy>
  <dcterms:modified xsi:type="dcterms:W3CDTF">2009-03-06T20:03:29Z</dcterms:modified>
  <cp:revision>47</cp:revision>
  <dc:subject/>
  <dc:title>GEMs 101</dc:title>
</cp:coreProperties>
</file>