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80F5-322E-49A4-B016-CC2D39771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4EE5-DF5E-41C6-9D57-2EB011E4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FA97-4321-4882-BFF4-3A4F2264C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B88A-FBB2-4852-BDFC-7D7C51228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AA3B-1CB8-48F1-A6E9-E694CA21D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B990-B717-488D-B893-C85FE6669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1B5F-8AF1-41D8-B123-C1E107145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675B-3F51-4278-9442-32167481D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8729-D910-472A-868F-2E6F82710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C26E-EEDA-48D0-9718-C22356AB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F591-7CCF-460B-ACCD-B252428F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2E3D-06F6-4D32-BF2D-A982103D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DE481-C073-4AA4-9C2D-FCC092ECC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ms.hhs.gov/ICD10/01m_2009_ICD10PCS.asp#TopOfPag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-PCS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honda Butler, 3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D-9-CM Coordination &amp; Maintenance Commit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11,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1BE6-BC3F-4A47-8132-65DEB3335A8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-PCS 2009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on CMS website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ms.hhs.gov/ICD10/01m_2009_ICD10PCS.asp#TopOf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066680" y="2651040"/>
            <a:ext cx="7010640" cy="364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F961-B237-46E1-9754-A199900754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-PCS 2009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400" y="129528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’s New” summary contains overview of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2389320"/>
            <a:ext cx="7543800" cy="3814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B46F-2533-4BDB-BA1B-F23A1C95E11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-PCS 2009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new values added in 2009 are parallel with new I-9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23880" y="2286000"/>
            <a:ext cx="5639040" cy="4186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438280" y="5410080"/>
            <a:ext cx="4572000" cy="129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35A6-610F-4B8B-B91F-D85DFB579A5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-PCS 2009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values are incorporated into the appropriate table(s) to create new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2008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80880" y="3657600"/>
            <a:ext cx="8458200" cy="176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5C45-3F03-4018-956C-33AED99492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-PCS 2009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values are incorporated into the appropriate table(s) to create new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2009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8686800" cy="2281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495680" y="4648320"/>
            <a:ext cx="441972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052F-AB83-4B17-84FF-9B6AC6A702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-PCS 2009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04920" y="3276720"/>
            <a:ext cx="4114800" cy="239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for 2009, ICD-10-PCS Final Add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ehensive report of codes added, deleted, and descriptions changed, in pdf and programmable form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572000" y="3298680"/>
            <a:ext cx="4267080" cy="241956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A38D-913E-4249-8C09-742E6F48624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-PCS 2009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for 2009, ICD-10-PCS Body Part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domain reference to accompany PCS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nged by both anatomical term and PCS bod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ed with public and Cooperating Parties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523880" y="3362400"/>
            <a:ext cx="5791320" cy="317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9EE6-4CE6-4F0E-B79E-A970C9D1596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D-10-PCS 2010 Update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new cod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arallel with ICD-9-CM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response to public requests to C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 codes or change code descri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going improvements from internal review and public feedback to C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going enhancements to code set and draft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response to public requests to C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needed for clarity and ease of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28B5-5C54-4E78-9A6D-DB4DA0EA1A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21:16:58Z</dcterms:created>
  <dc:creator>3M HIS rb</dc:creator>
  <dc:description/>
  <dc:language>en-US</dc:language>
  <cp:lastModifiedBy>3M HIS rb</cp:lastModifiedBy>
  <dcterms:modified xsi:type="dcterms:W3CDTF">2009-03-02T14:24:48Z</dcterms:modified>
  <cp:revision>7</cp:revision>
  <dc:subject/>
  <dc:title>ICD-10-PCS Update</dc:title>
</cp:coreProperties>
</file>