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191-F2EF-41E2-8BFC-F92B873A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70B-82D7-406E-AD5A-56F600C9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BA3-F22A-4E03-9678-F9D7D794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F43-C2A7-4A91-91B1-8E0AF2A2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507-254C-4767-9F87-078A9B95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7B2-43EA-4DBD-AC0F-8E22FAAD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A272-4C2B-4BFA-AB6E-3E4E80B4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922-16D1-4582-82CA-01209E49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AB0-A7AD-4CB4-B940-844F6FD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12E-DE1F-4503-AD39-29908858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746-72FA-4C77-90D7-956F4C44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31E-7E8F-426E-BBF9-8EAAF6C8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8C3A-8DB5-4722-B63B-62B5245B28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S-DRG Conversion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ice Bonazelli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 Coordination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Committ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43434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xed, manageable number of lists in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produce 95% of the mapping without any need for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need clinical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990720"/>
          <a:ext cx="6786720" cy="321624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s in remaining MDC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sues Discover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Converting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natomic specificity, NOS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list-specific criteria for identifying the appropriate anatomic subset of PCS codes that belong on a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I-10 code does not contain a distinction found in two or more I-9 codes, all the I-9 codes are mapped to the sam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flict exists if the I-9 codes are in different MS-DR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o be expected between code sets with significant differences in design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CS code may be irrelevant to a list because of its anatomic or root operation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261 PCS codes are translated to 92.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9 codes may contain detail not pertinent to current understanding of disease or to a PCS axis of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diagnosis codes may use outmoded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procedure codes may include diagnosis information (e.g., drainage of a cyst, drainage of an abs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the I-10 code is assigned to the I-9 code that results in the most appropriate MS-DR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8074200">
            <a:off x="4190760" y="2819160"/>
            <a:ext cx="981000" cy="936720"/>
          </a:xfrm>
          <a:custGeom>
            <a:avLst/>
            <a:gdLst>
              <a:gd name="textAreaLeft" fmla="*/ 281520 w 981000"/>
              <a:gd name="textAreaRight" fmla="*/ 840240 w 981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G Logic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MS-DRG conversion involves replacing lists of I-9 codes without changing underlying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ew cases, DRG logic for I-10 MS-DRGs must be modified in ord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DRG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: Radical Pancreaticoduodenec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276720"/>
          <a:ext cx="8097840" cy="328140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1111320"/>
                <a:gridCol w="15001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-10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laces I-9 procedur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MS-D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 Change to replicat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 Total Pancreatectom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-4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2 Other Partial Resection Of 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9-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FTG0ZZ Resection of Pancreas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DT90ZZ Resection of Duodenum, Open 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7 Radical Pancreaticoduodenectom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-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ICD-9 based systems and processes to ICD-10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s facilitate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of MS-DRGs to ICD-10 codes well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RGs converted and initial review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DRGs auto-replaced by GEMs, translations being reviewed and fin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version slated for internal CMS review beginning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s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MS-DRG Definitions Man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C 06 currently posted in two different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ormat option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public feedback on preferre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comments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s convers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-DRG ICD-10 conversio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ll medical DRGs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surgical DRGs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ces still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ICD-10 version of MS-DRGs will be subject to rule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 definitions manual format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CD-10 MS-DRG Conver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s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all ICD-10 codes with their full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553080" cy="43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ensed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 codes in condensed notation, followed by number of cod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409840"/>
            <a:ext cx="5943600" cy="42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CS Option: Tabl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ICD-10-PCS codes in table forma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612880"/>
            <a:ext cx="6782040" cy="3730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ot Operation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root operation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61760" y="2514600"/>
            <a:ext cx="7924680" cy="361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p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tering the route of passage of the contents of a tubular body 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1[HKLMN][0348][7JKZ][4HKLMNP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3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panding an orifice or the lumen of a tubular body p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ode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Intestine Reg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eocecal Valv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Intestine, A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c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S Optio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dy Par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ed description organized by body part, includes total number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2514600"/>
            <a:ext cx="7696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Small and Large Bowel Procedures  1483 ICD-10-PCS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, A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8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8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oden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9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1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9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97ZZ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9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 Intestine Reg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pa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1[AB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[AB]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[AB]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leocecal Val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C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arge Intestine, 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l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7E[034][DZ]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is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BE[034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DFE[03478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c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feedback on the MS-DRGs I-10 definitions format to C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65200" y="2895480"/>
            <a:ext cx="621360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MS-DRGs definitions manual to be posted on CMS website with the annual ICD-10 update at the end of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CD-10 websit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version of MS-DRGs using ICD-10 codes will be subject to the rule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ensed ICD-10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this prese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may contain condensed codes and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ICD-10 Codes—An asterisk (*) means all valid possibilities for codes in that category or subcategory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00* Cholera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CM cholera cod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Codes—All valid possibilities for an axis of classification are displayed in square b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DN9[034]ZZ Release Duodenum (3 c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ree ICD-10-PCS approaches apply to the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ly I-10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s current DR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 departures whe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0760" y="1828440"/>
            <a:ext cx="47242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C[0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ocecal Valve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EFG]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 (12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H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Cecum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J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ppendix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K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A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L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ransverse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M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escending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N[0234]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igmoid Colon (4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[ST]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Omentum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V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Mesentery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W**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Peritoneum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160" y="1752120"/>
            <a:ext cx="3733560" cy="3048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 possible, assign an I-10 code to the same DRG(s) as the I-9 code it was translated to in the I-10 to I-9 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495680" cy="27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191120" y="5638680"/>
            <a:ext cx="2286000" cy="304920"/>
          </a:xfrm>
          <a:prstGeom prst="wedgeRectCallout">
            <a:avLst>
              <a:gd name="adj1" fmla="val -72777"/>
              <a:gd name="adj2" fmla="val -1301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definitions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9480" y="1108080"/>
            <a:ext cx="3733920" cy="24494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sp>
        <p:nvSpPr>
          <p:cNvPr id="58" name=""/>
          <p:cNvSpPr/>
          <p:nvPr/>
        </p:nvSpPr>
        <p:spPr>
          <a:xfrm>
            <a:off x="380880" y="304920"/>
            <a:ext cx="2590920" cy="304560"/>
          </a:xfrm>
          <a:prstGeom prst="wedgeRectCallout">
            <a:avLst>
              <a:gd name="adj1" fmla="val 38111"/>
              <a:gd name="adj2" fmla="val 23281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CD-10 to ICD-9 GEM e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7621400">
            <a:off x="3605040" y="2490480"/>
            <a:ext cx="1295280" cy="134316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179640 h 1343160"/>
              <a:gd name="textAreaBottom" fmla="*/ 116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rsion of MS-DR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irst, conversion of MS-DRGs to I-10 appeared more difficult than it turned out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-DRGs are composed of logical relationships among lists of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to I-10 leaves the logic of MS-DRGs un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-9 lists of codes that underlie MS-DRGs need to be con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version of the I-9 code lists to I-10 code lists is straight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of “find and replac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artially 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8:29:21Z</dcterms:created>
  <dc:creator>3M HIS rb</dc:creator>
  <dc:description/>
  <dc:language>en-US</dc:language>
  <cp:lastModifiedBy>3M HIS rb</cp:lastModifiedBy>
  <cp:lastPrinted>2008-05-07T18:50:12Z</cp:lastPrinted>
  <dcterms:modified xsi:type="dcterms:W3CDTF">2009-03-05T14:32:03Z</dcterms:modified>
  <cp:revision>156</cp:revision>
  <dc:subject/>
  <dc:title>Title Here</dc:title>
</cp:coreProperties>
</file>