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927-9C8E-43BA-B949-DD05FDEF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324-886F-4EC0-B5BC-38DEC785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DA6-A690-4A6D-8C56-A2BB0771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159-CDA9-4C13-AB88-FE7B58B4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2835-D09E-4819-A1EE-E23E709F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34A3-5274-4B68-9B84-DA1A9BD0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17FF-4A4D-4549-899E-A39F9526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604-ABDE-4905-9959-76DD9A7D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82AB-DEE9-49CF-A620-00AC0B4E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621D-6D31-4782-B563-098697BF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E15-B187-403F-94A8-F664EEF5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49BE-5DD1-4E86-8057-7F40B0F8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FF1B-0A09-4213-AF3E-4B5F70C6BE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0CB1-D714-445A-866A-981FCFB16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1EF9-1591-4CF1-B15A-3460B6B7F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Implemen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 Brooks, R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cia.brooks2@cms.hhs.go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ior Technical Ad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l and Ambulatory Policy Group, CMM, C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84D-2C1A-43DB-A5F9-75F7F507D5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versions of ICD-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-CM (diagno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ms.hhs.gov/ICD10/02m_2009_ICD_10_CM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-PCS (proced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ms.hhs.gov/ICD10/01m_2009_ICD10PC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1D4F-1399-4959-88D5-05F003F1B3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3AA6-376D-47B2-A9A5-EDBD63E34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-CM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Diagnoses – used by all types of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CM will 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Procedures – used only by inpatient hosp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D-10-PCS will 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Procedural Terminology (CPT) &amp; HCPCS– used for all ambulatory and physician procedure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being replaced by ICD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CB0-C61E-426A-831D-E645115F903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5639-B81E-434D-ACA9-A58D7E67E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-CM is Outd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years old – technology has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ategories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escriptive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254E-5381-47D1-99C5-4001A29E256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50BF-C227-47F3-AAA8-50D756024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ries Using ICD-10 For Reimbursement or Case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Kingdom (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dic countries (Denmark, Finland, Iceland, Norway, Sweden) (1994 – 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 (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gium (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BC4-AAE3-41FD-95DD-47DC43EEB95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74D9-33F5-4FB1-833A-BCF26E019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Diagno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has 3 – 5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s 1 – 17: all characters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emental chapters: first digit is alpha (E or V), remainder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6  Chronic airway obstruction not elsewhere classified (N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1.9  Unspecified pleural e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02.61  Hepatitis B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4314-8A32-482D-87F6-79F9A560BFD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D24A-A54E-45A2-9EF9-91BF6C098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Diagno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 has 3 – 7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1 is alpha (A – Z, not case sensi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2 is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3 is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s 4 – 7 are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66  Ya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69.20  Lyme disease, unspecifi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9A.311  Physical abuse complicating pregnancy, first trimes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42.001A  Fracture of unspecified part of right clavicle, initial encounter for closed fra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0647-87A5-48AD-88C4-6986EB0463E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0B08-FBD7-4416-9F1B-25633E296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has 3 – 4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4 digits are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.5  Partial gastrectomy with anastomosis to esopha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.42  Suture of duodenal ulcer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094B-87E0-428E-A8E9-AF378FC59BA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CE67-BDE8-49E2-BEF8-73BBF2BAE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al Differences -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 has 7 dig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an be either alpha (not case sensitive)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0 – 9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s O and I are not used to avoid confusion with numbers 0 an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B03ZX Excision of liver, percutaneous approach, dia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DQ10ZZ  Repair, upper esophagus, ope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5B4-BB43-4014-8499-A4A77E4DB2D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of Codes –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0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,0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,8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,58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94E3-456A-43A1-87B0-A476021AA3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9/ICD-10 Code Mapp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equivalence mappings (G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aid in converting applications and systems from I-9 to I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-directional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“finding and replacing” codes or lists of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B207-F6B4-4833-97B2-8821775160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January 16, 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-0013-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docket.access.gpo.gov/2009/pdf/E9-743.pd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1, 2013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-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70B-81CE-4FCE-9F00-526BCC31E9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-directional Mapp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143000" y="2666880"/>
          <a:ext cx="6858000" cy="2209680"/>
        </p:xfrm>
        <a:graphic>
          <a:graphicData uri="http://schemas.openxmlformats.org/drawingml/2006/table">
            <a:tbl>
              <a:tblPr/>
              <a:tblGrid>
                <a:gridCol w="2466000"/>
                <a:gridCol w="2177640"/>
                <a:gridCol w="221436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10-CM/P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CD-9-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ward map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3DF8-273F-4983-9604-2371117812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GEMs to convert paymen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S illustrated use of GEMS by developing ICD-10 version of MS-DR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with digestive MS-DRGs, Major Diagnostic Category (MDC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results at September 24, 2008 ICD-9-CM Coordination &amp; Maintenance Committee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complete all MS-DRGS by October 1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341-A3EA-4740-A804-3CDB0F5E14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 Conversion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 in I-9 or I-10, the same patient is assigned to the same MS-DR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 manual has familiar 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DC 6, DISEASES &amp; DISORDERS OF THE 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0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lera (3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monella enteri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3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gellosis (6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4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bacterial intestinal infections (10 cod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staphylococcal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Clostridium perfringens [Clostridium welchii]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3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parahaemolyt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Bacillus cere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5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borne Vibrio vulnificus intox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8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specified bacterial foodborne intox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0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cterial foodborne intoxication, unspec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9BAB-B1D8-4A29-9581-238A4E6BDB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gnosis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266688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0 Reg enteritis, sm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1 Reg enteritis, 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2 Reg enterit sm/lg in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59 Regional enteritis 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00040" y="1676160"/>
            <a:ext cx="57150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5 Inflammatory bowel disease w 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6 Inflammatory bowel disease w 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G 387 Inflammatory bowel disease w/o CC/M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al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0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small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11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large intestine with unspecified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out co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rectal bl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intestinal ob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fi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abs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5081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hn's disease of both small and large intestine with other com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1523880"/>
            <a:ext cx="2286000" cy="304920"/>
          </a:xfrm>
          <a:prstGeom prst="wedgeRectCallout">
            <a:avLst>
              <a:gd name="adj1" fmla="val 416"/>
              <a:gd name="adj2" fmla="val 40260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CM codes: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2666880"/>
            <a:ext cx="1676160" cy="99072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4572000"/>
            <a:ext cx="2286000" cy="304920"/>
          </a:xfrm>
          <a:prstGeom prst="wedgeRectCallout">
            <a:avLst>
              <a:gd name="adj1" fmla="val -47361"/>
              <a:gd name="adj2" fmla="val -18177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5EA-E2F9-4952-9A8E-A101A5B362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nd Repl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048120" cy="22096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ROOM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1 Lap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59 Oth periton adhesi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80920" y="1523880"/>
            <a:ext cx="541044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5 Peritoneal adhesiolysis w 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6 Peritoneal adhesiolysis w 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G 337 Peritoneal adhesiolysis w/o CC/M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Room Procedures: 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8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Small Intestine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9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Duode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A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Jejun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3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B4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Ileum, Percutaneous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0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DNE2Z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Large Intestine, Open Endoscopic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105520"/>
            <a:ext cx="2819160" cy="1447560"/>
          </a:xfrm>
          <a:prstGeom prst="wedgeRectCallout">
            <a:avLst>
              <a:gd name="adj1" fmla="val 64356"/>
              <a:gd name="adj2" fmla="val -1042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10-PCS codes: 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 root operation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e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Freeing a body part from an external physical constra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191120"/>
            <a:ext cx="2286000" cy="304560"/>
          </a:xfrm>
          <a:prstGeom prst="wedgeRectCallout">
            <a:avLst>
              <a:gd name="adj1" fmla="val -41527"/>
              <a:gd name="adj2" fmla="val -20260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ICD-9-CM codes: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2666880"/>
            <a:ext cx="1676520" cy="9907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 replac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2D3B-B2E3-4536-AFBB-941159439D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S-DRGs Conversion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Ms produce 95% of the MDC 6 mapping without any need fo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maining 5% is based on MDC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review of the remaining MDCs is expected to steadil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rules derived for MDC 6 are applied to the remaining MDCs, fewer codes will need clinical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43000" y="1219320"/>
          <a:ext cx="6786720" cy="2401920"/>
        </p:xfrm>
        <a:graphic>
          <a:graphicData uri="http://schemas.openxmlformats.org/drawingml/2006/table">
            <a:tbl>
              <a:tblPr/>
              <a:tblGrid>
                <a:gridCol w="2819520"/>
                <a:gridCol w="1639800"/>
                <a:gridCol w="1671480"/>
                <a:gridCol w="6559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cod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unique lists in MS-DRG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s in MDC 6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-replaced by GEM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s in MDC 6  lis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-replaced by GEMs 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d by clinical review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A80B-0260-41BB-94A4-2D467B8A54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ly Broad I-9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200 overly broad I-9 procedure codes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an I-9 procedure code be replaced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sociated PCS cod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very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 I-9 code is lis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4343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ly Broad I-9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-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.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active elem im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.0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n &amp; subq incision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3.8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le or fascia g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1.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pair of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rthrotomy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7.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e incis w/o div N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io oth non-cor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ture of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9.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c shunt &amp; bypas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.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vessel biop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.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craniot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.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pheral nerve incis 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380880"/>
            <a:ext cx="1981440" cy="1524240"/>
          </a:xfrm>
          <a:prstGeom prst="wedgeRoundRectCallout">
            <a:avLst>
              <a:gd name="adj1" fmla="val 20032"/>
              <a:gd name="adj2" fmla="val 1213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cause PCS codes always specify body part, approach and device, 92.27 is associated with 261 PCS cod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220-D018-4B68-9232-235D13FA0B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 for I-9 Overly Broad Procedure 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the assignment of PCS codes associated with overly broad I-9 codes to anatomic sites corresponding to each M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C 6 Example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Gs 356, 357, 358 Other Digestive System O.R. Procedur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92.27 Implantation or Insertion of Radioactive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ocedure 92.27, only 10 of the 261 PCS codes are assigned to MDC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3429000"/>
            <a:ext cx="38862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DH571Z Insertion of Radioactive Element into Esophagus, Via Natural or Artificial Op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DHP81Z Insertion of Radioactive Element into Rectum, Via Natural or Artificial Opening Endosc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3429000"/>
            <a:ext cx="464832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ely Unlike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MDC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H0X1Z Insertion of Radioactive Element into Right Eye, External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BHL01Z Insertion of Radioactive Element into Left Lung, Ope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HHU31Z Insertion of Radioactive Element into Left Breast, Percutaneou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A444-B15F-42DC-A5B2-77E4297562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-9 Code Conflicts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i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an I-10 code is assigned to more than one I-9 c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-9 codes are assigned to different MS-DR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733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09.89 Other specifi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umatic disease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monary va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29200" y="2057040"/>
            <a:ext cx="36576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8.99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rheumatic hea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14,315,3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irculatory system diagno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97.1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heumatic diseases of pulmonary va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DC 5 DRG 306,3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ac congenital &amp; valvular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886200"/>
            <a:ext cx="2743200" cy="1676520"/>
          </a:xfrm>
          <a:prstGeom prst="wedgeRectCallout">
            <a:avLst>
              <a:gd name="adj1" fmla="val -45138"/>
              <a:gd name="adj2" fmla="val -230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09.89 combines the descriptions of two I-9 codes. All other rheumatic diseases of the heart currently classified have unique codes in ICD-10-CM, and according to frequency data I-9 code 398.99 is rarely u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5486400"/>
            <a:ext cx="2971800" cy="1143000"/>
          </a:xfrm>
          <a:prstGeom prst="wedgeRectCallout">
            <a:avLst>
              <a:gd name="adj1" fmla="val -1069"/>
              <a:gd name="adj2" fmla="val -162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resolve the conflict for I-10 code I09.89, the I-10 code is assigned to the I-9 code 397.1, which results in the most appropriate MS-DRG assig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1E7B-93F4-4A90-B333-34B5B2167D1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of GEMs to convert payment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discuss progress at future C&amp;M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16, 17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ster for C&amp;M at http://www.cms.hhs.gov/apps/events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ICD-10 Grouper by October 2009, post by the end of 2009 on ICD-10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Grouper logic subject to rule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9A6-7C34-4542-9C2B-E75C5ED7B03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date October 1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date for all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service for ambulatory &amp; physician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of discharge for inpatient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odes will not be accepted for services provided on or after October 1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laims for services prior to implementation date will continue to flow through systems for a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5DB-850D-4F1C-839A-0C39DD66C3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GEMs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Reimbursement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Ms are designed to aid in converting applications and systems from I-9 to I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ayers found the detail da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streamlined Reimbursement Mapping (one to one best ma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imbursement mappings would assist in a more simple conversion of codes for reimbursement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C618-7821-4130-A4F5-5D86D8F2F0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ment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imbursement M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I-10 to I-9 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one I-9 code, no additional review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5% percent of the I-10 codes is translated to a singl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1-10 codes are translated to the same I-9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n I-10 code is translated to more than one I-9 code, historical I-9 code frequency data are used to determine the most commonly used I-9 code among the I-9 cod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par and California (for newborn and OB codes) data we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vast majority of cases there is a clear dominant code in terms of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are cases, clinical review is needed to make the final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89EE-BF86-4FF8-A363-1E09C028A44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Mappin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Ms and Reimbursement mappings were designed to be used by all providers, payers, and data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tools to assist in conver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publicly available on the CMS &amp; CDC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ntinue to update and maintain the map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B33F-3F21-47C1-9DCE-F6745979245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d on CMS ICD-10 website http://www.cms.hhs.gov/ICD10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Diagnosis GEMs and us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Procedure GEMs and use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Reimbursement map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10 Digestive System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version of ICD-10-CM and PCS codes and official co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D-10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749-0C96-44EF-B227-ED472984843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worked collaboratively with AHA, AHIMA, and CDC (Cooperating Parties) on outreach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resources at http://www.cms.hhs.gov/ICD10/05_Educational_Resource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02E-FACC-4E97-B5A2-07736A3DBC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es of ICD-10 Outreach calls prior to final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on calls posted at http://www.cms.hhs.gov/ICD10/07_Sponsored_Calls.asp#TopOf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pts of each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s used in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23C3-B9C0-43FC-B962-7792FFC91B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reach 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additional outreach efforts through collaboration with Cooperating Pa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on future educational outreach will be posted at http://www.cms.hhs.gov/ICD10/05_Educational_Resources.asp#TopOf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A, AHIMA, and others will also provide more detailed outreach and education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9B9D-3411-489A-99F1-8CD8D3EE0D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annu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 &amp; Maintenance Committee will continue to discuss updates to ICD-9-CM, ICD-10-CM, &amp; ICD-10-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updates on CMS &amp; CDC home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total codes changes with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679-86DA-480A-A6FE-9143C6D78B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D-10 annu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name – ICD-10 Coordination &amp; Maintenance Committee upo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iscuss any need to freeze coding systems prior to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agenda item for September 16-17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ICD-10 and/or ICD-9-CM be frozen prior to implemen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hould the freeze beg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640A-80F5-4E30-9244-07618F5BD3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 Final Rule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available on CMS &amp; CDC web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ICD-10-CM and PCS systems including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Equivalence Mappings (GEMs) between ICD-9-CM and ICD-10 (both w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guide for G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breviated Reimbursement Mapp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ICD-10 version of MS-DR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A62-6DA4-4D85-9BE1-5F0827D696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9T13:27:58Z</dcterms:created>
  <dc:creator>Pat Brooks</dc:creator>
  <dc:description/>
  <cp:keywords>ICD-10-PCS</cp:keywords>
  <dc:language>en-US</dc:language>
  <cp:lastModifiedBy>3M HIS rb</cp:lastModifiedBy>
  <cp:lastPrinted>1999-04-09T13:25:34Z</cp:lastPrinted>
  <dcterms:modified xsi:type="dcterms:W3CDTF">2009-03-06T19:42:24Z</dcterms:modified>
  <cp:revision>117</cp:revision>
  <dc:subject>CPRI presentation</dc:subject>
  <dc:title>ICD-10-P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