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75B6-0FDC-4160-B48F-66A6CFA58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gional plan is defined as an MA plan that:</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 network of providers that have agreed to a contractually specified reimbursement for covered benefits offered by the plan</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for reimbursement for all covered benefits, regardless of whether such benefits are provided within such network of providers  AND</a:t>
            </a:r>
            <a:endParaRPr b="0" lang="en-US" sz="1200" spc="-1" strike="noStrike">
              <a:solidFill>
                <a:srgbClr val="000000"/>
              </a:solidFill>
              <a:latin typeface="Arial"/>
            </a:endParaRPr>
          </a:p>
          <a:p>
            <a:pPr marL="228600" indent="-22860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a service area that is one or more entire MA region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6 MA regions and 34 PDP regions (not including territories, which are all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own PDP regions).  Note that the territories are not part of any MA region.</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plans (PPOs) can have only a single deductible related to A/B services – although application of costs can be applied differentially.</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 PPOs are required to have a cap on in-network cost sharing related to original Medicare benefits (A/B services).  They are also required to have an additional (higher) "combined" cap on both in-network and out-of-network cost sharing for A/B services.  The statute did not specify, and we did not codify in regulation, a specific limit.  However, the cap on in-network cost sharing is subject to the normal overall cost sharing limit in any MA plan - to wit, the actuarial value of the FFS cost sharing that normally applies to FFS enrollees.  Generally, these caps will need to be non-discriminatory and might become a marketing featu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regional PPOs will have contracted networks of providers.  To the extent that they guarantee in-network cost sharing for receipt of services that are not under contract, we will permit their establishment.  Applicants for regional MA plans will need to explain how they will ensure that members will have access to in-network cost sharing and if they need to apply the “exception” that we provided for then in 422.112(a)(1)(ii).  The “exception” is not available to local MA plans, since they can choose the service area (county-by-county) in which they will offer a local MA pl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lain the “essential hospital” provision in more detail and explain the steps an MA regional plan will need to follow in order to “designate” a “subsection (d)” hospital as an “essential hospital.”  “Subsection (d)” refers to section 1886(d) of the Act, where hospitals that are (in laymen’s terms) paid under the Medicare PPS (prospective payment system) and that are “general acute care hospitals” are described.  Some of the additional requirements that need to be met before a hospital can be “designated” as an “essential hospital” by a regional MA plan includ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re are no “competing” hospitals (that are NOT under common ownership and contro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the MA regional plan can show that it offered to pay FFS rates to the hospital – and the hospital refus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 protections include a guarantee of in-network cost sharing and notification on how to obtain covered services at in-network cost sharing leve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7B355-F0BC-4430-828D-BE547CC8A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54541-EACD-448B-B5D5-469C2C287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A63E6-9905-4834-9818-51137E8FD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74B77-F736-4B94-A549-A47D587CF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9AB76-67B9-4945-B642-51ABACFF0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3C541-7AE5-45D5-9F89-943FFF2EE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15891-1EDA-483B-B77D-4E04FCA06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80107-8DC9-4DE5-BA49-B0C318F770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F94FE-6289-488D-A7B6-C2AA243C7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18B72-1192-4DE1-914C-52E8A75C8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B0EC6-751D-4CEC-8F99-F8E25309C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12E1E-FF64-4FD0-911B-5E3E96F5D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D07C2-98ED-4660-A868-DAF48754D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F9C95-4DA2-4347-B46C-0A424B89B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D12C7-CF17-4712-B464-F3D2B8112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43CE00-65E5-4A7E-AE82-29E84FF3A6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F83B60-23B4-4BAF-9846-C0C1A7220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9426-635C-4281-BCB6-546F959C5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EC1AA-B3E8-49DD-802D-6F1A8B17B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9A2ED-B2AA-4ADB-902A-265AA480A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492E-0BF8-4C0E-B12A-16C5A8262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7D8B6-A1FE-4C07-A3EE-26A11948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19D96-9CA9-486B-8D65-D26AEBF62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E74B7-1603-468E-B18C-134151FBC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D868-AB2B-43D8-BAC0-3CB755E4008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A17B-5F99-4774-9A1E-08A60F53A7F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ms.hhs.gov/medicarereform/mmaregions/" TargetMode="External"/><Relationship Id="rId2" Type="http://schemas.openxmlformats.org/officeDocument/2006/relationships/hyperlink" Target="http://www.cms.hhs.gov/medicarereform/mmaregions/" TargetMode="External"/><Relationship Id="rId3" Type="http://schemas.openxmlformats.org/officeDocument/2006/relationships/hyperlink" Target="http://www.cms.hhs.gov/medicarereform/mmaregions/"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Regional Preferred Provider Organizations</a:t>
            </a:r>
            <a:endParaRPr b="0" lang="en-US" sz="5400" spc="-1" strike="noStrike">
              <a:solidFill>
                <a:srgbClr val="ccecff"/>
              </a:solidFill>
              <a:latin typeface="Arial"/>
            </a:endParaRPr>
          </a:p>
        </p:txBody>
      </p:sp>
      <p:sp>
        <p:nvSpPr>
          <p:cNvPr id="164" name="PlaceHolder 2"/>
          <p:cNvSpPr>
            <a:spLocks noGrp="1"/>
          </p:cNvSpPr>
          <p:nvPr>
            <p:ph type="subTitle"/>
          </p:nvPr>
        </p:nvSpPr>
        <p:spPr>
          <a:xfrm>
            <a:off x="990720" y="3886200"/>
            <a:ext cx="7772400" cy="22860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laine Fingold, MAG/DPM</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rank Szeflinski, MPPG/DMCP</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s for Beneficiary Choices</a:t>
            </a:r>
            <a:endParaRPr b="0" lang="en-US" sz="2800" spc="-1" strike="noStrike">
              <a:solidFill>
                <a:srgbClr val="ffffff"/>
              </a:solidFill>
              <a:latin typeface="Verdana"/>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enters for Medicare and Medicaid Servic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act Information</a:t>
            </a:r>
            <a:endParaRPr b="0" lang="en-US" sz="44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assistance with RPPO application or related questions, please contact</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aine Fingold, JD</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lth Insurance Specialist</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MS/CBC/MAG/DPM</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il Stop C4-23-07</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7500 Security Boulevard</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timore, MD  21244</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410.786.5014</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hfingold@cms.hhs.gov</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B1FD9B48-8B44-4AC2-B0B4-E1A636B61566}" type="slidenum">
              <a:t>10</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gional Plans</a:t>
            </a:r>
            <a:endParaRPr b="0" lang="en-US" sz="4400" spc="-1" strike="noStrike">
              <a:solidFill>
                <a:srgbClr val="ccecff"/>
              </a:solidFill>
              <a:latin typeface="Arial"/>
            </a:endParaRPr>
          </a:p>
        </p:txBody>
      </p:sp>
      <p:sp>
        <p:nvSpPr>
          <p:cNvPr id="166"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eated under Medicare Modernization Act (MMA)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defined service area – must serve entire Regio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gions announced 12/6/04 – see </a:t>
            </a:r>
            <a:r>
              <a:rPr b="0" lang="en-US" sz="2400" spc="-1" strike="noStrike" u="sng">
                <a:solidFill>
                  <a:srgbClr val="ffffcc"/>
                </a:solidFill>
                <a:uFillTx/>
                <a:latin typeface="Verdana"/>
                <a:hlinkClick r:id="rId1"/>
              </a:rPr>
              <a:t>http://</a:t>
            </a:r>
            <a:r>
              <a:rPr b="0" lang="en-US" sz="2400" spc="-1" strike="noStrike" u="sng">
                <a:solidFill>
                  <a:srgbClr val="ffffcc"/>
                </a:solidFill>
                <a:uFillTx/>
                <a:latin typeface="Verdana"/>
                <a:hlinkClick r:id="rId2"/>
              </a:rPr>
              <a:t>www.cms.hhs.gov/medicarereform/mmaregions</a:t>
            </a:r>
            <a:r>
              <a:rPr b="0" lang="en-US" sz="2400" spc="-1" strike="noStrike" u="sng">
                <a:solidFill>
                  <a:srgbClr val="ffffcc"/>
                </a:solidFill>
                <a:uFillTx/>
                <a:latin typeface="Verdana"/>
                <a:hlinkClick r:id="rId3"/>
              </a:rPr>
              <a:t>/</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ps on beneficiary out-of-pocket costs for Medicare benefit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network A/B benefit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and out-of-network (combined) A/B benefits</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ngle Deductible</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3"/>
          </p:nvPr>
        </p:nvSpPr>
        <p:spPr/>
        <p:txBody>
          <a:bodyPr/>
          <a:p>
            <a:fld id="{8B27B60A-7D60-4538-99BE-4672D20CC7B0}" type="slidenum">
              <a:t>2</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am Intent</a:t>
            </a:r>
            <a:endParaRPr b="0" lang="en-US" sz="4400" spc="-1" strike="noStrike">
              <a:solidFill>
                <a:srgbClr val="ccecff"/>
              </a:solidFill>
              <a:latin typeface="Arial"/>
            </a:endParaRPr>
          </a:p>
        </p:txBody>
      </p:sp>
      <p:sp>
        <p:nvSpPr>
          <p:cNvPr id="16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crease choice in rural are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videnced b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e-defined service area</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atorium on new local PPOs for 2006-2007</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ancial incentive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isk corridors</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payments (stabilization fund)</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 hospital wrap-around payment</a:t>
            </a:r>
            <a:endParaRPr b="0" lang="en-US" sz="2400" spc="-1" strike="noStrike">
              <a:solidFill>
                <a:srgbClr val="ffffff"/>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6E03FF96-07D7-44E6-B1BC-68220EB8452C}" type="slidenum">
              <a:t>3</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ealth Services Delivery</a:t>
            </a:r>
            <a:endParaRPr b="0" lang="en-US" sz="4400" spc="-1" strike="noStrike">
              <a:solidFill>
                <a:srgbClr val="ccecff"/>
              </a:solidFill>
              <a:latin typeface="Arial"/>
            </a:endParaRPr>
          </a:p>
        </p:txBody>
      </p:sp>
      <p:sp>
        <p:nvSpPr>
          <p:cNvPr id="170"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PPO by defini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as a network of contracted providers that have agreed to a specific reimbursement for RPPO’s covered services, an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ys for all covered services whether provided in or out of network</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licant should generally have a comprehensive preferred network with Access Standards consistent with community patterns of care</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20051BA6-DF21-4270-95A3-AAE974E2BF82}" type="slidenum">
              <a:t>4</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ssessing Access to Care</a:t>
            </a:r>
            <a:endParaRPr b="0" lang="en-US" sz="4000" spc="-1" strike="noStrike">
              <a:solidFill>
                <a:srgbClr val="ccecff"/>
              </a:solidFill>
              <a:latin typeface="Arial"/>
            </a:endParaRPr>
          </a:p>
        </p:txBody>
      </p:sp>
      <p:sp>
        <p:nvSpPr>
          <p:cNvPr id="172" name="PlaceHolder 2"/>
          <p:cNvSpPr>
            <a:spLocks noGrp="1"/>
          </p:cNvSpPr>
          <p:nvPr>
            <p:ph/>
          </p:nvPr>
        </p:nvSpPr>
        <p:spPr>
          <a:xfrm>
            <a:off x="457200" y="1066680"/>
            <a:ext cx="8229600" cy="5181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valuated based on plan’s propos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cess standard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d for entire Region by Rural and Urban areas</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ural and Urban – defined at 42 CFR 412.62(f)</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tinct Access Standard for defined provider types</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cess narrative</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support appropriateness of access standards for each Rural and Urban area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st include geographic maps of the Region by defined Rural and Urban areas (include county borders)</a:t>
            </a: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ception</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bmit plan for addressing areas not in compliance with submitted standard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testation that areas not identified conform with given access standards</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3"/>
          </p:nvPr>
        </p:nvSpPr>
        <p:spPr/>
        <p:txBody>
          <a:bodyPr/>
          <a:p>
            <a:fld id="{CC6DE414-279F-4CD6-9953-6CFA100BF9DC}" type="slidenum">
              <a:t>5</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ess Flexibility </a:t>
            </a:r>
            <a:endParaRPr b="0" lang="en-US" sz="4400" spc="-1" strike="noStrike">
              <a:solidFill>
                <a:srgbClr val="ccecff"/>
              </a:solidFill>
              <a:latin typeface="Arial"/>
            </a:endParaRPr>
          </a:p>
        </p:txBody>
      </p:sp>
      <p:sp>
        <p:nvSpPr>
          <p:cNvPr id="174"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Essential hospital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chanisms other than written agreements – 422.112(a)(1)(ii)</a:t>
            </a:r>
            <a:endParaRPr b="0" lang="en-US" sz="32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Allow members to go to any qualified provider at in-network cost-sharing levels</a:t>
            </a:r>
            <a:endParaRPr b="0" lang="en-US" sz="27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Tell members to call the plan if they cannot locate a participating provider</a:t>
            </a:r>
            <a:endParaRPr b="0" lang="en-US" sz="27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will direct member to needed provider that agrees to treat members</a:t>
            </a:r>
            <a:endParaRPr b="0" lang="en-US" sz="2000" spc="-1" strike="noStrike">
              <a:solidFill>
                <a:srgbClr val="ffffff"/>
              </a:solidFill>
              <a:latin typeface="Verdana"/>
            </a:endParaRPr>
          </a:p>
          <a:p>
            <a:pPr lvl="1" marL="7430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Other methods</a:t>
            </a:r>
            <a:endParaRPr b="0" lang="en-US" sz="2700" spc="-1" strike="noStrike">
              <a:solidFill>
                <a:srgbClr val="ffffff"/>
              </a:solidFill>
              <a:latin typeface="Verdana"/>
            </a:endParaRPr>
          </a:p>
        </p:txBody>
      </p:sp>
      <p:sp>
        <p:nvSpPr>
          <p:cNvPr id="4" name="PlaceHolder 3"/>
          <p:cNvSpPr>
            <a:spLocks noGrp="1"/>
          </p:cNvSpPr>
          <p:nvPr>
            <p:ph type="sldNum" idx="3"/>
          </p:nvPr>
        </p:nvSpPr>
        <p:spPr/>
        <p:txBody>
          <a:bodyPr/>
          <a:p>
            <a:fld id="{1055A3E6-FE7A-4B1D-B548-847DCB640A62}" type="slidenum">
              <a:t>6</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sential Hospitals</a:t>
            </a:r>
            <a:endParaRPr b="0" lang="en-US" sz="4400" spc="-1" strike="noStrike">
              <a:solidFill>
                <a:srgbClr val="ccecff"/>
              </a:solidFill>
              <a:latin typeface="Arial"/>
            </a:endParaRPr>
          </a:p>
        </p:txBody>
      </p:sp>
      <p:sp>
        <p:nvSpPr>
          <p:cNvPr id="176"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pplicant can ask CMS to designate a hospital as essential, if</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ospital falls under SSA 1886(d)(1)(B)</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provides convincing evidence that contract with hospital is needed to meet access requirements </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establishes that there are no competing Medicare participating hospitals in the area to which enrollees could reasonably be referred for inpatient hospital services</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PPO establishes that it made “good faith” effort (i.e., offered at least FFS Medicare rates) to contract with hospital but hospital refused</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3"/>
          </p:nvPr>
        </p:nvSpPr>
        <p:spPr/>
        <p:txBody>
          <a:bodyPr/>
          <a:p>
            <a:fld id="{65E2C235-24EC-4C4C-9C3D-6B9BEE967D61}" type="slidenum">
              <a:t>7</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ssential Hospital, cont.</a:t>
            </a:r>
            <a:endParaRPr b="0" lang="en-US" sz="4000" spc="-1" strike="noStrike">
              <a:solidFill>
                <a:srgbClr val="ccecff"/>
              </a:solidFill>
              <a:latin typeface="Arial"/>
            </a:endParaRPr>
          </a:p>
        </p:txBody>
      </p:sp>
      <p:sp>
        <p:nvSpPr>
          <p:cNvPr id="178" name="PlaceHolder 2"/>
          <p:cNvSpPr>
            <a:spLocks noGrp="1"/>
          </p:cNvSpPr>
          <p:nvPr>
            <p:ph/>
          </p:nvPr>
        </p:nvSpPr>
        <p:spPr>
          <a:xfrm>
            <a:off x="457200" y="1143000"/>
            <a:ext cx="822960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nce approved, CMS will notify plan and hospita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 Hospital can request payments from CMS above Medicare FFS rates, if it can demonstrate that FFS rates would not cover its actual costs for a specific enrollee that it has treated</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 Hospital will submit a miniature cost report</a:t>
            </a:r>
            <a:endParaRPr b="0" lang="en-US" sz="24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Specifics of mini cost report process are under development</a:t>
            </a:r>
            <a:endParaRPr b="0" lang="en-US" sz="22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MMA provides $25 million in 2006</a:t>
            </a:r>
            <a:endParaRPr b="0" lang="en-US" sz="24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Updated by market basket for future year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aid in order that claims are received, up to total amount allocated under MMA</a:t>
            </a:r>
            <a:endParaRPr b="0" lang="en-US" sz="2200" spc="-1" strike="noStrike">
              <a:solidFill>
                <a:srgbClr val="ffffff"/>
              </a:solidFill>
              <a:latin typeface="Verdan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
        <p:nvSpPr>
          <p:cNvPr id="4" name="PlaceHolder 3"/>
          <p:cNvSpPr>
            <a:spLocks noGrp="1"/>
          </p:cNvSpPr>
          <p:nvPr>
            <p:ph type="sldNum" idx="3"/>
          </p:nvPr>
        </p:nvSpPr>
        <p:spPr/>
        <p:txBody>
          <a:bodyPr/>
          <a:p>
            <a:fld id="{F7B4820E-9ECA-47F4-82C3-BC934900516F}" type="slidenum">
              <a:t>8</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Regional Plan Issues</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 regional plans are not forced to contrac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n-interference rule</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censing in multi-state region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going monitoring</a:t>
            </a:r>
            <a:endParaRPr b="0" lang="en-US" sz="3200" spc="-1" strike="noStrike">
              <a:solidFill>
                <a:srgbClr val="ffffff"/>
              </a:solidFill>
              <a:latin typeface="Verdana"/>
            </a:endParaRPr>
          </a:p>
        </p:txBody>
      </p:sp>
      <p:sp>
        <p:nvSpPr>
          <p:cNvPr id="4" name="PlaceHolder 3"/>
          <p:cNvSpPr>
            <a:spLocks noGrp="1"/>
          </p:cNvSpPr>
          <p:nvPr>
            <p:ph type="sldNum" idx="3"/>
          </p:nvPr>
        </p:nvSpPr>
        <p:spPr/>
        <p:txBody>
          <a:bodyPr/>
          <a:p>
            <a:fld id="{DCE0C87D-D39C-4D5B-B074-2A8B5C2D8033}" type="slidenum">
              <a:t>9</a:t>
            </a:fld>
          </a:p>
        </p:txBody>
      </p:sp>
      <p:sp>
        <p:nvSpPr>
          <p:cNvPr id="5" name="PlaceHolder 4"/>
          <p:cNvSpPr>
            <a:spLocks noGrp="1"/>
          </p:cNvSpPr>
          <p:nvPr>
            <p:ph type="dt" idx="1"/>
          </p:nvPr>
        </p:nvSpPr>
        <p:spPr/>
        <p:txBody>
          <a:bodyPr/>
          <a:p>
            <a:r>
              <a:rPr lang="en-US"/>
              <a:t>CMS/CBC</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7:50:37Z</dcterms:created>
  <dc:creator>CMS</dc:creator>
  <dc:description/>
  <dc:language>en-US</dc:language>
  <cp:lastModifiedBy>CMS</cp:lastModifiedBy>
  <dcterms:modified xsi:type="dcterms:W3CDTF">2005-03-11T14:19:29Z</dcterms:modified>
  <cp:revision>7</cp:revision>
  <dc:subject/>
  <dc:title>Regional Preferred Provider Organizations</dc:title>
</cp:coreProperties>
</file>